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D34D-7E14-4356-B965-AB8E640E3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C4C8-0A02-438F-BC6F-C781B88E4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99AB-0BEB-4F9E-9F3B-A4FC8A493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5770-2FBF-4400-8788-EFE12A00D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F533-6CF4-4A5E-ADD6-086DB1640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C993-1088-4E95-9C28-41E0EABDA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C97A-756A-4A33-ADAF-87533225C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BAA0-FE18-4A84-9392-DB770AFCD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8070-7670-4620-87FB-B722DB501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5292-04AA-45A3-ACA9-3638045D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562A-76AF-4FB9-BFF4-7A28A201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F449-B15A-4403-B420-7A29AB57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7039CA18-AD9F-4A55-A982-FCA6306767C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45000" y="278136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1"/>
          <p:cNvSpPr/>
          <p:nvPr/>
        </p:nvSpPr>
        <p:spPr>
          <a:xfrm>
            <a:off x="0" y="548640"/>
            <a:ext cx="915840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7000" spc="-1" strike="noStrike">
                <a:solidFill>
                  <a:srgbClr val="000000"/>
                </a:solidFill>
                <a:latin typeface="DFKai-SB"/>
                <a:ea typeface="DFKai-SB"/>
              </a:rPr>
              <a:t>唱響這時代的呼聲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3"/>
          <p:cNvSpPr/>
          <p:nvPr/>
        </p:nvSpPr>
        <p:spPr>
          <a:xfrm>
            <a:off x="0" y="2493000"/>
            <a:ext cx="91429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曲：林婉容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CCLI # 719164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0" y="6419160"/>
            <a:ext cx="9143640" cy="43848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1"/>
          <p:cNvSpPr/>
          <p:nvPr/>
        </p:nvSpPr>
        <p:spPr>
          <a:xfrm>
            <a:off x="828000" y="45000"/>
            <a:ext cx="72622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6000" spc="-1" strike="noStrike">
              <a:ln>
                <a:solidFill>
                  <a:srgbClr val="000000"/>
                </a:solidFill>
              </a:ln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47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48" name="文本框 3"/>
          <p:cNvSpPr/>
          <p:nvPr/>
        </p:nvSpPr>
        <p:spPr>
          <a:xfrm>
            <a:off x="6012360" y="6413040"/>
            <a:ext cx="31316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唱響這時代的呼聲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1/4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4"/>
          <p:cNvSpPr/>
          <p:nvPr/>
        </p:nvSpPr>
        <p:spPr>
          <a:xfrm>
            <a:off x="0" y="188640"/>
            <a:ext cx="9143640" cy="57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諾亞的日子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人們照常吃喝嫁娶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直到洪水把他們都冲去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約拿的日子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人們分不清對和錯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直到聽見神僕人的呼籲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副标题 7"/>
          <p:cNvSpPr/>
          <p:nvPr/>
        </p:nvSpPr>
        <p:spPr>
          <a:xfrm>
            <a:off x="0" y="6419160"/>
            <a:ext cx="9143640" cy="438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1"/>
          <p:cNvSpPr/>
          <p:nvPr/>
        </p:nvSpPr>
        <p:spPr>
          <a:xfrm>
            <a:off x="828000" y="45000"/>
            <a:ext cx="72622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6000" spc="-1" strike="noStrike">
              <a:ln>
                <a:solidFill>
                  <a:srgbClr val="000000"/>
                </a:solidFill>
              </a:ln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54" name="文本框 4"/>
          <p:cNvSpPr/>
          <p:nvPr/>
        </p:nvSpPr>
        <p:spPr>
          <a:xfrm>
            <a:off x="0" y="1038240"/>
            <a:ext cx="91436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沒有人傳</a:t>
            </a:r>
            <a:r>
              <a:rPr b="0" lang="en-US" sz="5500" spc="-1" strike="noStrike">
                <a:solidFill>
                  <a:srgbClr val="000000"/>
                </a:solidFill>
                <a:latin typeface="DFKai-SB"/>
                <a:ea typeface="DFKai-SB"/>
              </a:rPr>
              <a:t> 怎能聽見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沒有聽見 怎能相信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怎能求告主名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DFKai-SB"/>
                <a:ea typeface="DFKai-SB"/>
              </a:rPr>
              <a:t>(2X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5"/>
          <p:cNvSpPr/>
          <p:nvPr/>
        </p:nvSpPr>
        <p:spPr>
          <a:xfrm>
            <a:off x="0" y="6361560"/>
            <a:ext cx="1569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前副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副标题 7"/>
          <p:cNvSpPr/>
          <p:nvPr/>
        </p:nvSpPr>
        <p:spPr>
          <a:xfrm>
            <a:off x="0" y="6419160"/>
            <a:ext cx="9143640" cy="438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3"/>
          <p:cNvSpPr/>
          <p:nvPr/>
        </p:nvSpPr>
        <p:spPr>
          <a:xfrm>
            <a:off x="6012360" y="6413040"/>
            <a:ext cx="31316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唱響這時代的呼聲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2/4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1"/>
          <p:cNvSpPr/>
          <p:nvPr/>
        </p:nvSpPr>
        <p:spPr>
          <a:xfrm>
            <a:off x="828000" y="45000"/>
            <a:ext cx="72622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6000" spc="-1" strike="noStrike">
              <a:ln>
                <a:solidFill>
                  <a:srgbClr val="000000"/>
                </a:solidFill>
              </a:ln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60" name="文本框 4"/>
          <p:cNvSpPr/>
          <p:nvPr/>
        </p:nvSpPr>
        <p:spPr>
          <a:xfrm>
            <a:off x="0" y="981000"/>
            <a:ext cx="9143640" cy="38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主啊膏抹我 使用我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唱響這時代的呼聲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主啊膏抹我 使用我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唱響這時代的呼聲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5"/>
          <p:cNvSpPr/>
          <p:nvPr/>
        </p:nvSpPr>
        <p:spPr>
          <a:xfrm>
            <a:off x="0" y="6334920"/>
            <a:ext cx="1731960" cy="5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副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副标题 7"/>
          <p:cNvSpPr/>
          <p:nvPr/>
        </p:nvSpPr>
        <p:spPr>
          <a:xfrm>
            <a:off x="0" y="6419160"/>
            <a:ext cx="9143640" cy="438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3"/>
          <p:cNvSpPr/>
          <p:nvPr/>
        </p:nvSpPr>
        <p:spPr>
          <a:xfrm>
            <a:off x="6012360" y="6413040"/>
            <a:ext cx="31316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唱響這時代的呼聲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3/4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1"/>
          <p:cNvSpPr/>
          <p:nvPr/>
        </p:nvSpPr>
        <p:spPr>
          <a:xfrm>
            <a:off x="828000" y="45000"/>
            <a:ext cx="72622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6000" spc="-1" strike="noStrike">
              <a:ln>
                <a:solidFill>
                  <a:srgbClr val="000000"/>
                </a:solidFill>
              </a:ln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66" name="文本框 4"/>
          <p:cNvSpPr/>
          <p:nvPr/>
        </p:nvSpPr>
        <p:spPr>
          <a:xfrm>
            <a:off x="0" y="1038240"/>
            <a:ext cx="9143640" cy="38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時候將到 現在就是了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死人要聽見神兒子的聲音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就要活了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5"/>
          <p:cNvSpPr/>
          <p:nvPr/>
        </p:nvSpPr>
        <p:spPr>
          <a:xfrm>
            <a:off x="0" y="6334920"/>
            <a:ext cx="1731960" cy="5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橋段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副标题 7"/>
          <p:cNvSpPr/>
          <p:nvPr/>
        </p:nvSpPr>
        <p:spPr>
          <a:xfrm>
            <a:off x="0" y="6419160"/>
            <a:ext cx="9143640" cy="438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3"/>
          <p:cNvSpPr/>
          <p:nvPr/>
        </p:nvSpPr>
        <p:spPr>
          <a:xfrm>
            <a:off x="6012360" y="6413040"/>
            <a:ext cx="31316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唱響這時代的呼聲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4/4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  <Words>239</Words>
  <Paragraphs>5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18:00Z</dcterms:modified>
  <cp:revision>8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PresentationFormat">
    <vt:lpwstr>On-screen Show (4:3)</vt:lpwstr>
  </property>
  <property fmtid="{D5CDD505-2E9C-101B-9397-08002B2CF9AE}" pid="5" name="Slides">
    <vt:r8>5</vt:r8>
  </property>
</Properties>
</file>