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2AB-ECEC-4975-8548-98EECF97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5D28-7F27-4996-805B-E24480A4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74CE-B194-4978-9FC9-BC72A57F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853-3851-4EED-94ED-0C0F18C4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BF8-E9A8-4D0F-BBA1-A0C6BA2E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D31C-A423-476A-BA72-8ABD5DF9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EB7-48AB-441C-B9F6-B6D52661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8AF-4366-47AE-B7E7-03DDAAEE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6E8-CBBC-47A7-B0E2-92E8CA8B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7FE8-1C35-492A-A8F5-95EDD8DD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763-5FD3-4B8C-9DEE-DD54FC98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CE60-4B59-4D21-B6BA-28CAC184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C0FA3C7-F17B-4DD2-A681-EA132CD3BE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9360" y="548640"/>
            <a:ext cx="91486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SOUND THE C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720" y="2133000"/>
            <a:ext cx="914292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360" y="6419160"/>
            <a:ext cx="9134280" cy="35208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"/>
                <a:ea typeface="楷体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7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5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"/>
          <p:cNvSpPr/>
          <p:nvPr/>
        </p:nvSpPr>
        <p:spPr>
          <a:xfrm>
            <a:off x="0" y="685800"/>
            <a:ext cx="9143640" cy="52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諾亞的日子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In the days of Noah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人們照常吃喝嫁娶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icked men were making mer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直到洪水把他們都冲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Till the flood ca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brought judgment to them all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3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5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685800"/>
            <a:ext cx="914364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約拿的日子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In the days of Jonah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人們分不清對和錯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Man could not tell right from wrong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直到聽見神僕人的呼籲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Till they heeded Your holy servant's call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4"/>
          <p:cNvSpPr/>
          <p:nvPr/>
        </p:nvSpPr>
        <p:spPr>
          <a:xfrm>
            <a:off x="0" y="60948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沒有人傳</a:t>
            </a:r>
            <a:r>
              <a:rPr b="0" lang="en-US" sz="5300" spc="-1" strike="noStrike">
                <a:solidFill>
                  <a:srgbClr val="000000"/>
                </a:solidFill>
                <a:latin typeface="DFKai-SB"/>
                <a:ea typeface="DFKai-SB"/>
              </a:rPr>
              <a:t> 怎能聽見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will hear You with no preaching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沒有聽見 怎能相信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will know You with no teaching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怎能求告主名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will call on Your nam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前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"/>
          <p:cNvSpPr/>
          <p:nvPr/>
        </p:nvSpPr>
        <p:spPr>
          <a:xfrm>
            <a:off x="6013440" y="6413040"/>
            <a:ext cx="31302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5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"/>
          <p:cNvSpPr/>
          <p:nvPr/>
        </p:nvSpPr>
        <p:spPr>
          <a:xfrm>
            <a:off x="6013440" y="6413040"/>
            <a:ext cx="31302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4/5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457200"/>
            <a:ext cx="9143640" cy="57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主啊膏抹我 使用我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Lord, anoint me! Make use of m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Calling back the dead unto lif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主啊膏抹我 使用我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Lord, anoint me! Make use of m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Send me in to sound the cry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5/5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4"/>
          <p:cNvSpPr/>
          <p:nvPr/>
        </p:nvSpPr>
        <p:spPr>
          <a:xfrm>
            <a:off x="0" y="609480"/>
            <a:ext cx="914364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時候將到 現在就是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Soon will come a time,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the time is com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死人要聽見神兒子的聲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en the dead shall hear the voice of th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Son of Go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就要活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have new lif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  <Words>404</Words>
  <Paragraphs>8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3:17Z</dcterms:modified>
  <cp:revision>12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6</vt:r8>
  </property>
</Properties>
</file>