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哦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名何其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哦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名何其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4:40:45Z</dcterms:modified>
  <cp:revision>10</cp:revision>
  <dc:subject/>
  <dc:title>哦主, 你名何其美</dc:title>
</cp:coreProperties>
</file>