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525-E59E-4606-A57A-EE7969AB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8F4-9A51-499D-A26E-A24B86EF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86B8-7F91-4782-84AC-A277757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9B4-F806-4DA0-9936-03E28243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ED0-87AC-4E38-A251-8364B0DE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B23-38B5-4582-80F5-FBD58A5B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944-EAC7-48AD-830F-39DA19CD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5DD-E238-4D6E-9A2D-31AB319C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454-E1D9-4270-B5BA-B05AC5F6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D97-F8EB-4861-B37F-0307785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EAE-6966-4DCD-94F7-E2A0FB7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2F5-353D-49CD-81D5-42C38A7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5DBA-B4F5-4EE0-940D-1E49F28BA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亚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哈利路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6:11Z</dcterms:modified>
  <cp:revision>7</cp:revision>
  <dc:subject/>
  <dc:title>幻灯片 1</dc:title>
</cp:coreProperties>
</file>