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68C2-1CC7-4EF0-8A71-39E6796CC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E26E-3CD9-439C-B909-36469E684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F9E3-0216-4018-8CBE-26FFC88C8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42EF-FCDE-433C-ADC6-D7717FFAD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6D2B-F3DC-4AB8-A1A2-0713E50BA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7FA5-EC68-4898-83BD-96E6FF367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4244-347E-47F6-893A-3701DDE4D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C9C4-E26E-4F5D-94E9-D0630369E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10A7-D10D-4ADA-8F2A-F9DEF6D2F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BE5D-64DC-4939-BC9F-AEA767F9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5E2A-D302-4C26-BB6F-3A4E9B97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2F8E-3836-4ECD-8083-CEA8F226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8101D-3F6F-488E-B996-1A31CBDA2B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哈利路亞（袮真實奇妙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C:\Documents and Settings\Administrator\桌面\再次将我更新\繁体PPT\哈利路亞（袮真實其妙）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哈利路亞（袮真實奇妙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C:\Documents and Settings\Administrator\桌面\再次将我更新\繁体PPT\哈利路亞（袮真實其妙）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23:3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