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吸引我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就快跑隨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吸引我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我就快跑隨你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20:29Z</dcterms:modified>
  <cp:revision>16</cp:revision>
  <dc:subject/>
  <dc:title>吸引我, 我就快跑隨你</dc:title>
</cp:coreProperties>
</file>