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BF8-0E1D-4DEF-96D6-5F81E8DF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D44-97ED-4BA7-B7D0-C26026E2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714-7894-4937-B574-67ADDB93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33F-55FD-4F9B-B6D1-6E613905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704-BF91-4F00-9FA8-C1FA6463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A69-7D6D-41A7-B48C-FA0C3998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281-5714-49EA-9D36-9274AAF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24A-2773-40A9-9338-6C72E61F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663-1C39-49FC-AD70-09B7B939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DA6-6276-49E2-8B49-DD40DF3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3AF-668A-4197-90D4-71F831E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85C-A2BF-43C9-B8BF-95A542B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2C8548B-82D6-4B58-B610-D321FABC5B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47700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493000"/>
            <a:ext cx="91436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0" y="213300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LL STILL BELIE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3808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Eternal, pure and holy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who can claim to know His ways?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172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838080"/>
            <a:ext cx="91436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533520"/>
            <a:ext cx="9143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Even faced with death, I'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For I know He can deliver me,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but should He not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Unto His name all glory b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I wi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838080"/>
            <a:ext cx="9143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Creator and Sustainer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can prevail against His way? Oh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0" y="838080"/>
            <a:ext cx="914364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0" y="380880"/>
            <a:ext cx="91436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od alone is strong to sav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steadfast love is s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e's the same in every ag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faithfulness endure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69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2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