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4E49-55C6-48A3-BBD5-45A988AE9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18DA-8C41-4029-B38F-978C9FB1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21EA-C3EC-44FF-AD44-0F63E1281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F637-18ED-4064-83DF-C516783D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778F-C88B-4252-B65F-D073A45D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9690-1477-4B11-86C2-9EE4C9E8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B9F4-B6D0-4A31-835B-391DC424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DAA1-B5A5-4855-8E40-28699139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6A2F-711F-41BA-AD41-3EA9BF00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C972-F9F2-409A-91DF-727DC401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32BB-BD23-4F29-B2D5-4BBE2137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6D99-7104-42CD-AAFA-A6C97896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BA94B391-CFE4-4730-8390-0E0F9E98ED4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0" y="548640"/>
            <a:ext cx="914292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DFKai-SB"/>
                <a:ea typeface="DFKai-SB"/>
              </a:rPr>
              <a:t>即或不然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"/>
          <p:cNvSpPr/>
          <p:nvPr/>
        </p:nvSpPr>
        <p:spPr>
          <a:xfrm>
            <a:off x="0" y="2133000"/>
            <a:ext cx="9143640" cy="31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</a:t>
            </a: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5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9" name="文本框 3"/>
          <p:cNvSpPr/>
          <p:nvPr/>
        </p:nvSpPr>
        <p:spPr>
          <a:xfrm>
            <a:off x="7020720" y="638244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21600" y="548640"/>
            <a:ext cx="9142200" cy="57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誰能像我的神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自有永有 至聖至尊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誰能尋見 祂的蹤跡 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誰能像我的神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作為完全 良善正直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在祂裏面 毫無不義 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4"/>
          <p:cNvSpPr/>
          <p:nvPr/>
        </p:nvSpPr>
        <p:spPr>
          <a:xfrm>
            <a:off x="9360" y="837000"/>
            <a:ext cx="913428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烈火窯中 我仍要相信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神必拯救我脫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即或不然 我仍要尊榮祂聖名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尊榮祂聖名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3"/>
          <p:cNvSpPr/>
          <p:nvPr/>
        </p:nvSpPr>
        <p:spPr>
          <a:xfrm>
            <a:off x="7020720" y="638244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9" name="文本框 4"/>
          <p:cNvSpPr/>
          <p:nvPr/>
        </p:nvSpPr>
        <p:spPr>
          <a:xfrm>
            <a:off x="0" y="548640"/>
            <a:ext cx="9163800" cy="57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誰能像我的神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說有就有 命立就立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誰能抵擋 祂的旨意 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誰能像我的神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作為完全 良善正直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在祂裏面 毫無不義 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"/>
          <p:cNvSpPr/>
          <p:nvPr/>
        </p:nvSpPr>
        <p:spPr>
          <a:xfrm>
            <a:off x="7020720" y="638244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4"/>
          <p:cNvSpPr/>
          <p:nvPr/>
        </p:nvSpPr>
        <p:spPr>
          <a:xfrm>
            <a:off x="0" y="908640"/>
            <a:ext cx="9143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神 祂不休息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愛不離不棄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神 永不改變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信實直到永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5"/>
          <p:cNvSpPr/>
          <p:nvPr/>
        </p:nvSpPr>
        <p:spPr>
          <a:xfrm>
            <a:off x="0" y="6382440"/>
            <a:ext cx="20804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"/>
          <p:cNvSpPr/>
          <p:nvPr/>
        </p:nvSpPr>
        <p:spPr>
          <a:xfrm>
            <a:off x="7020720" y="638244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  <Words>254</Words>
  <Paragraphs>6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7:20Z</dcterms:modified>
  <cp:revision>13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5</vt:r8>
  </property>
</Properties>
</file>