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4352-4F6C-4EA8-B0B2-578D47E60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6500-E0F0-44B0-96C7-81121014E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43D3-A8A0-4BFD-8F4A-723EC241A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042E-000F-4B70-9B3E-185408B84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2978-BAF1-4C23-AC7B-A44194F53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B266-2A93-4AEA-B0BF-E1B72899F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3772-BC02-4547-9526-2332F801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EC11-74DC-454A-99EF-7B8DF5F62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F8C8-81D7-408B-B1A7-BBC04743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D1C5-65B2-4833-B195-570E4FE5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5260-6DE4-4DDB-9CDA-5EEBBDAE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7244-5EA5-4F6A-B079-0325B30B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5FE2-0767-41ED-A7AF-496F6469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2738-7C86-414D-B789-02B3A56D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1712-EA0C-43CA-946A-96D41CD7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F145-5EF4-46F0-A0EF-4CD1957C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D322-3349-4C84-AEB2-EC543664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F2D6-990D-4A97-B0F6-A57D5D489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再次將我更新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ewed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:\Documents and Settings\Administrator\桌面\再次将我更新\繁体中英PPT\再次將我更新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再次將我更新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ewed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istrator\桌面\再次将我更新\繁体中英PPT\再次將我更新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再次將我更新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ewed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C:\Documents and Settings\Administrator\桌面\再次将我更新\繁体中英PPT\再次將我更新\再次將我更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再次將我更新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ewed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Administrator\桌面\再次将我更新\繁体中英PPT\再次將我更新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6:3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