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71AC6-B848-40B2-A504-B35B2C36EC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96BBC-7396-4D63-AD16-D63CAC6E0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FF95-21F6-4703-ABA3-0FC1FDA2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E78D5-672F-4DB9-BD4D-9E8CC4EDD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E2CA-B7F9-44FB-846B-517FAADFC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99678-84E3-42F3-92FC-A617040DA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495A-920E-4A64-912B-F8E3FD5F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048A1-2666-4535-B681-B40D9AFCB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3F2DA-A2C1-4558-A4C9-BAC5ACBFB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EB19F-4786-4CA2-BE96-31D349D26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1B98-AD1C-44F3-B17C-CA37CDC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B760-AF69-4DCE-8CD7-7E15EBAED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B2241-155C-46DD-90AA-955DF513B8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E:\圣洁活祭\简体\來吧, 我們讚美\幻灯片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2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E:\圣洁活祭\简体\來吧, 我們讚美\幻灯片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505320" y="6248520"/>
            <a:ext cx="2666880" cy="426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来吧，我们讚美 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3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E:\圣洁活祭\简体\來吧, 我們讚美\幻灯片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微软中国</cp:lastModifiedBy>
  <dcterms:modified xsi:type="dcterms:W3CDTF">2011-03-23T05:02:26Z</dcterms:modified>
  <cp:revision>2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