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47B-C621-48B7-994E-FD63EA15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D8F-90AC-48B6-9E64-03DD9999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D9B-EB7B-4B34-988F-1B49B9A0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E7A-2C60-47E4-972D-F60080C1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0B2-8699-42EF-B8AA-91C7EA00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9D0-96DE-4E19-AA39-79C9A8FC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941-7C16-4E8B-9D9D-CF42669A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B60-CF2C-4F56-8215-7E97D0F0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4B2-3A76-48D3-AFB1-0D3FDC83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6B0-EF9D-40F5-A99E-80B7B528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BB0-7006-4DB5-B43C-65DF2AA7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044-98ED-43E7-AED6-A03FF692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9471DD8-B21B-40FD-A212-96E755B11E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13320" y="477000"/>
            <a:ext cx="91479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385720"/>
            <a:ext cx="91436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720" y="2061360"/>
            <a:ext cx="9171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ETERNAL LO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0" y="577224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0" y="477000"/>
            <a:ext cx="91335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ee, the new earth and heaven are her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Gone is all death, and gone are all tear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Lamb and bride, together at las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Eternally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9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748080"/>
            <a:ext cx="918288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Long in the past, it came to God's m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He'd create a virtuous brid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make a world on which she would thriv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In paradise.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720" y="405000"/>
            <a:ext cx="915120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ow He'd enjoy the cool of the day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hen He would walk that beautiful pl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With His true love! -- till she bought a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at tore her awa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838080"/>
            <a:ext cx="9143640" cy="53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477000"/>
            <a:ext cx="914364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is act of love performed for her sak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elted her heart; her soul was aw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Freed from her guilt, and brimming with jo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is hand she would tak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0" y="477000"/>
            <a:ext cx="914364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before long, the trumpet shall soun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Calling the bride, caught up in the cloud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Bringing her home, to where she belong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The Father's hous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9360" y="838080"/>
            <a:ext cx="913428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Oh, in His heart He loved her so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just forget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He would not abandon His brid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7016760" y="6382440"/>
            <a:ext cx="21268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8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9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0" y="405000"/>
            <a:ext cx="9153720" cy="58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So He said, "To My cherished one I'll g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blood I'll redeem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用水將他洗淨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And with water wash cle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DFKai-SB"/>
              </a:rPr>
              <a:t>My beloved and she will be Mine."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3074"/>
          <p:cNvSpPr/>
          <p:nvPr/>
        </p:nvSpPr>
        <p:spPr>
          <a:xfrm>
            <a:off x="0" y="6382440"/>
            <a:ext cx="914292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  <Words>762</Words>
  <Paragraphs>1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37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10</vt:r8>
  </property>
</Properties>
</file>