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71E-C8A2-4AF2-8439-6A2BA0C9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223-EABE-45AA-B1AD-559C8AB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652-DC19-4E9F-8C33-23C9E8B4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4B7-843C-4F7E-B361-17602526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591-6E34-47A4-9FBA-FF29491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36B-9D9E-466D-A2D1-F9FF314B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B73-CEA0-4B46-BFB9-312FC1E2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0EA-E731-48B2-B28E-EEF2D3F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D6B-00E0-4162-B3F0-D4371922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519-C837-4A90-9138-2689C93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01B-5296-4BED-8265-3DF09A1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4C5-8522-4F5B-92AB-CDECFF18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2007DE7-45CC-4B79-8BCC-B57E6E12D8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240" y="692640"/>
            <a:ext cx="914364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01400"/>
            <a:ext cx="91468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5419800"/>
            <a:ext cx="9143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533412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45000" y="972360"/>
            <a:ext cx="921168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" y="6382440"/>
            <a:ext cx="913788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20" y="940320"/>
            <a:ext cx="9153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189360"/>
            <a:ext cx="914364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-45000" y="981000"/>
            <a:ext cx="9188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20" y="189360"/>
            <a:ext cx="91429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-17640" y="981000"/>
            <a:ext cx="918792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  <Words>447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0:51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