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0F4-83CD-4EB2-9FCE-5A4358CC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906-DC63-4865-A1EE-69CB9702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2D6-87C5-4E26-9344-0B053D8A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D8C-0A1B-4ECF-861F-1022651F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AA3-F8D8-425A-BD70-65017BD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BEF-3F78-4A6B-BE99-4753A48D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460-8F51-4B4C-B03A-AF0EF6A5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EDB-2EFE-4D2B-AEC4-C6CDD380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FBF-6A15-4AD2-9D26-A075DED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1B0-ED98-41BB-819E-12AFB89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1EF-7824-4798-BE5A-7A7B83E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644-B5BC-4FED-AF15-11F8782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A294-EF4B-41CF-AFD5-CFE3EE6739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主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主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主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主耶稣，我爱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7:53Z</dcterms:modified>
  <cp:revision>4</cp:revision>
  <dc:subject/>
  <dc:title>幻灯片 1</dc:title>
</cp:coreProperties>
</file>