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148F-E4F1-49E7-B393-FFF3B983C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A5A5-8AC5-4434-B269-6F38D372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D137-4802-4E10-8D02-6723FA43B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BB5E-EE62-4782-9D0C-0321E2D6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26FB-46CE-4527-A16F-AC320E3CF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em_ilove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ilove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ilove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d Jesus, I Love You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iloveyou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26Z</dcterms:modified>
  <cp:revision>58</cp:revision>
  <dc:subject/>
  <dc:title>主耶穌, 我愛你 Lord Jesus, I Love You</dc:title>
</cp:coreProperties>
</file>