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EC8-050C-49B4-B380-379C6DF2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B60-23E3-46EC-8DE6-5F06F13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E8F-ABFB-4054-A4DC-EA2DE41D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850-1DD6-44A4-83F5-5728C889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A9F-C815-41C4-BE0B-58D5938F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3CC-5FD4-491F-A310-1BC35AE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A7F-32C5-47EC-B813-29F2631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8E2-C552-46C8-8C0C-D3FD0637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BEA-2035-4CDF-A377-36728D5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DEA-F72C-4DFF-9DD5-6BFCCE8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064-0E8D-45E2-BBAE-2D4AA6F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5E4-A871-4CB8-8289-8DA943E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FEF-62F5-40D5-B962-1B59674A15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主啊，有谁能像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主啊，有谁能像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有谁能像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主啊，有谁能像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06Z</dcterms:modified>
  <cp:revision>4</cp:revision>
  <dc:subject/>
  <dc:title>幻灯片 1</dc:title>
</cp:coreProperties>
</file>