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BB1-803D-40F7-A40F-580DD293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C409-FCFF-45BA-8E56-1C4EDA90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70A-088D-4F1F-8702-0CFF6507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5C9B-9AF5-49DD-8FC7-EE91DFFE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9E9-84B7-49F5-9BB3-E959B2B6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FA2-B603-4141-97EA-B1EBEA53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E56B-F9E8-4113-85F2-278D8691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A9A-AF11-4CD2-8E69-BB132B1D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49F-5B2F-473E-8B5C-5D382A1A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F94-3200-4FB5-A343-005F08DC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724-389F-418C-815B-92EFBF22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1340-FD0F-4E0B-8CD9-4DD3F963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A593-CBEF-4E16-B74B-1DF7FB50D3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我们自卑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主啊，我们自卑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我们自卑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主啊，我们自卑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7:56Z</dcterms:modified>
  <cp:revision>5</cp:revision>
  <dc:subject/>
  <dc:title>幻灯片 1</dc:title>
</cp:coreProperties>
</file>