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8A65-3B71-4418-BDED-7E4E369860A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D276-D213-4CD4-AC49-4995AB1CEF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192B-5A87-48C9-9CB8-77EA78C0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E0F-0659-438B-8148-ADD6590C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F7DC-1319-406F-A96F-3459FE86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FD0D-7A50-4CC0-A030-9B7A5983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C13B-D424-40FB-B2F7-155ED09D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6CF-AC16-4D25-81AB-E2EBB5CA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6EB8-8491-4AE9-91C1-7D9796E3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A2C-395E-4FEC-AFA1-81FD744B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E5D8-86DF-49D5-BAA9-B97D95FC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79BC-9760-47C2-BB18-7103D40F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2120-F48C-48AB-A52C-E16768EF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95F4-BF89-4F39-8AB9-E69272CA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366B-5124-4020-9054-971D91119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E:\圣洁活祭\简体\我獻上自己 (主,我願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E:\圣洁活祭\简体\我獻上自己 (主,我願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:\圣洁活祭\简体\我獻上自己 (主,我願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E:\圣洁活祭\简体\我獻上自己 (主,我願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E:\圣洁活祭\简体\我獻上自己 (主,我願)\我獻上自己 (主,我願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YC</dc:creator>
  <dc:description/>
  <dc:language>en-US</dc:language>
  <cp:lastModifiedBy>微软中国</cp:lastModifiedBy>
  <dcterms:modified xsi:type="dcterms:W3CDTF">2011-03-23T05:10:0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