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我邀請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我邀請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我邀請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0:14Z</dcterms:modified>
  <cp:revision>14</cp:revision>
  <dc:subject/>
  <dc:title>主我邀請你</dc:title>
</cp:coreProperties>
</file>