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親愛主！聽我禱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親愛主！聽我禱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親愛主！聽我禱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0:41Z</dcterms:modified>
  <cp:revision>14</cp:revision>
  <dc:subject/>
  <dc:title>親愛主！聽我禱告</dc:title>
</cp:coreProperties>
</file>