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88A3-65ED-43C6-BF7F-60D7CE970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91C0-A9B7-4048-A549-73E6642BF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33B7-1273-4485-BDF1-555E40E90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6753-8B25-4D25-97F8-920CF5AF3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899D-7C68-485B-A3CF-026AB8C87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B87D-9EC3-4CD3-B630-038AC2F1F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A659-DDD5-4762-ADF3-14ACF0CA2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37CE-1929-4B6E-80EE-42EA4C949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07F7-D569-4D2E-99A3-E67C22A34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CF6B-1777-4F0F-BBBE-E68302B1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383C-5164-4169-A81A-858D9C1E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07C7-BE56-4860-B71C-5E295DAD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90D34-81C1-47A9-8095-30ECDD6A8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亲爱主！听我祷告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鼓舞\亲爱主！听我祷告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亲爱主！听我祷告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鼓舞\亲爱主！听我祷告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亲爱主！听我祷告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鼓舞\亲爱主！听我祷告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</cp:lastModifiedBy>
  <dcterms:modified xsi:type="dcterms:W3CDTF">2010-06-15T06:17:0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