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B7C1-38ED-4A06-ADBD-917EF4D0F7A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0F8E-C0EE-43AC-A494-9D3B0AA675E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AE85-1A66-4F57-8117-F2D2BB4E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AC8D-341C-47CF-8F4A-1A8D5CEF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DDC9-3ECD-4D66-8481-825F0826D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64ED-7FF1-46BC-A699-620D88EAD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E2BB-557E-4D84-A5C3-9E0B4A73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C236-6AAE-4BF6-ACD3-CAAA0DA5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8BF0-02DC-4CCF-9857-31912BE6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2A33-1A9F-4678-B880-99FD106E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4E2F-6A65-493E-86F0-B452A331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5BB4-C71B-4299-A3E0-BA471E27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4128-9C4F-4C34-8D5C-FEC3D44B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C0CF-5423-4656-B78B-A8BD5A7D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5B99-B47A-4BB9-BB70-99ED4A928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的天父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50" name="Picture 2" descr="E:\music\诗歌\PPT\2\鼓舞\我的天父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的天父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E:\music\诗歌\PPT\2\鼓舞\我的天父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的天父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E:\music\诗歌\PPT\2\鼓舞\我的天父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的天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父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E:\music\诗歌\PPT\2\鼓舞\我的天父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4T05:03:5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