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68D0-FF3B-45F8-BC95-E5551A0F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466-FCB6-406A-A1CC-5BB8A489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49A-A118-4E94-89F0-D362C4D0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941-3291-4963-97EB-8375AB8A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0126-F7BB-42CC-98C5-DBC04778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7197-234F-496D-88B1-D1A707F4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92DD-8A39-4D8D-AF7B-05FD210C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6F9-3DA9-406B-B9B2-B978BF75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50A-E320-40B3-BDA3-3970836B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6B0-3679-4BBB-BC68-4D1F5226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033-E3BC-4F8C-9B4A-66B1C586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1D66-C2AA-4438-94ED-5092B4B5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2D2C-C71D-4C49-8AE1-4BA24B3CAE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当他轻声呼唤你的名字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当他轻声呼唤你的名字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当他轻声呼唤你的名字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鼓舞\当他轻声呼唤你的名字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E:\music\诗歌\PPT\2\鼓舞\当他轻声呼唤你的名字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E:\music\诗歌\PPT\2\鼓舞\当他轻声呼唤你的名字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3:3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