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尊貴榮耀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尊貴榮耀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尊貴榮耀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6:05Z</dcterms:modified>
  <cp:revision>17</cp:revision>
  <dc:subject/>
  <dc:title>尊貴榮耀主</dc:title>
</cp:coreProperties>
</file>