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3EE-7F1A-47E3-8996-3B002F0B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EC9-DBA7-485D-B708-B27D134A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866-12A1-4AC3-8B75-9D9B05A4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937-1830-4D0F-B2C5-48D010A8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52F-6889-4240-BF1C-40B98418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39D-F777-4FDD-A634-3EA3B311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6BE-A205-4126-BD19-E748A276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C88-F52C-4C3E-B112-2FAD4A67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5F4-EC2F-45F8-ADFA-1CF349DA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268-58B0-4482-A04A-4D2EB339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A80-3468-445D-A41A-23A3D58E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18D-87BD-41C6-BF53-7F753F2C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B36E-6223-4C70-A2FB-1A31FEFAD8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尊贵荣耀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尊贵荣耀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尊贵荣耀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尊贵荣耀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尊贵荣耀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尊贵荣耀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8:59Z</dcterms:modified>
  <cp:revision>4</cp:revision>
  <dc:subject/>
  <dc:title>幻灯片 1</dc:title>
</cp:coreProperties>
</file>