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60E-D726-445D-842C-DA7A3D63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D3F-B066-48B8-BD12-48572591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56B-7EBE-461C-8771-B24714DF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075-1421-4CE3-824C-E4E121E2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0E3-13AA-4FC3-9F7C-79D9E0A4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A89-EE8C-422F-86C5-E4C001B2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E94-F0D7-41F8-A66E-1B94A643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1E4-19F7-4877-87A5-17F75BF8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AB5-6B3A-4E4A-B4FF-CE864FC1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7F5-D3CA-4563-BE22-4E7A209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3C4-5080-4500-9F67-C9F4BC6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525-A56D-4CDF-BF93-40EE4BBE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3564-B3D8-4782-B795-A59BEF26F1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愿你的国降临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愿你的国降临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愿你的国降临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愿你的国降临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2:46Z</dcterms:modified>
  <cp:revision>4</cp:revision>
  <dc:subject/>
  <dc:title>幻灯片 1</dc:title>
</cp:coreProperties>
</file>