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FFC-C2E2-4248-BDF9-4A7CA9A7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143-8783-4CC6-BA78-DFE6DDB5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EE2-1E8B-4D9E-B2E4-ED718274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309-D917-4D15-A812-078B8434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4C64-F9AA-49AE-B31E-09C9028F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BB5-AB13-404C-A6F9-EB428C6C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415-07E4-4190-9437-E1BFDB2F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AC3-7270-44D9-B087-228F9142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54E-2D5C-4697-AE13-BF45D597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14B-50F5-4A0E-A036-A31FD4B9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F28-3E5D-493B-A8F5-8725EE0A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B25-FEE4-4688-906F-0126494D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2EFB-D104-4213-BC15-7548029A3A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花尽一生来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花尽一生来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花尽一生来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花尽一生来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花尽一生来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花尽一生来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7:19Z</dcterms:modified>
  <cp:revision>4</cp:revision>
  <dc:subject/>
  <dc:title>幻灯片 1</dc:title>
</cp:coreProperties>
</file>