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907-534C-4D74-B04A-CEE68D00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0D9-44ED-457D-9F85-6CE8D9F9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44D-CE51-4191-A431-63E4349C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799-23F0-4D49-8B5F-59E2CF5A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17F-E87E-4C19-A155-BF3BCCF2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CBC-812C-42E5-B4D0-EB40725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9AE-4C7E-4F67-932C-DF7D2C56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986-F117-4B86-9583-82129D48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3BC-31BD-4AD4-AB76-FD1F6376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1D8-A1C6-41E6-8AF7-FAEA530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B16-E7DD-4B50-82C3-89A885D8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025-C2A2-44D6-B39F-42CF4BF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C91C-128B-4AC6-8A2B-5427842D30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0:34Z</dcterms:modified>
  <cp:revision>5</cp:revision>
  <dc:subject/>
  <dc:title>幻灯片 1</dc:title>
</cp:coreProperties>
</file>