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12B-EB56-479D-A554-6D8FAA2C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092-8C03-48D1-807E-6EF422C0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61FC-9E67-48C0-86A5-24B69CBF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9BD-1E23-470B-9B04-86F8099A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E17-2A77-4507-98FB-B661E073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B0C-40AF-4639-9113-611929EA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E3A-573E-4B31-8959-0AADA92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648-9620-49F8-ADDB-32A0FB14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C71-C703-4258-8797-8CEACC31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3C6-5FCD-481C-875B-2F7131F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8AE-B128-4441-A19A-57737A76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7F2-68DB-4B7B-A7F6-BC931FD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FB52-565C-4DE2-814F-4FBD8C7D02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你是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你是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30Z</dcterms:modified>
  <cp:revision>4</cp:revision>
  <dc:subject/>
  <dc:title>幻灯片 1</dc:title>
</cp:coreProperties>
</file>