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15E-3C98-4FA9-8A69-EE53B477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080-BAF6-4502-8B4D-32AF85C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139-6DFE-4B1F-BCD5-B857EB8B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133-21E8-48A0-B77C-315724EC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2A7-1D38-44AF-A8DB-FC1DC5B0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E1F-11F0-457A-89A4-27CA2BC2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A55-62CE-414E-95F2-12B656B5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403-6B64-4ADC-A74B-5C64667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533-875A-4E38-B919-5A9A891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0C2-0745-4F82-8E99-D6E583E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065-29D5-49E2-8A58-0AF6BF9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260-912A-4412-A7A4-3703F78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15D-33E1-4674-B781-A1E026D8D5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主啊，我们自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主啊，我们自卑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主啊，我们自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56Z</dcterms:modified>
  <cp:revision>5</cp:revision>
  <dc:subject/>
  <dc:title>幻灯片 1</dc:title>
</cp:coreProperties>
</file>