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8782-3255-4CB4-A38B-B33A4BFB6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774B-D3CD-4033-9A5E-4ED3AF131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549D-80E0-4B87-9F21-B61F39402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05AE-80BB-4CDB-A705-696D6C020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0043-31C8-4B96-BCF6-892156D3F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5051-8690-46B8-B599-39CC85DBB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B20F-AAE6-48FD-A0CF-2EB99D505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5869-295C-4404-8E7A-C4E6AFA55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DB02-6772-4150-AC2F-6D491286B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0C79-3233-4D84-A5C9-3F417B9B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FA19-5E95-4B66-945E-9C8A63671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2A4E-C3A3-416C-90C9-3800CB85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AF387-6B8C-4516-BAA6-F4E8D299C10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诗篇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3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篇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愿你的国降临\诗篇23篇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诗篇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3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篇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愿你的国降临\诗篇23篇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诗篇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3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篇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愿你的国降临\诗篇23篇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5:16:49Z</dcterms:modified>
  <cp:revision>4</cp:revision>
  <dc:subject/>
  <dc:title>幻灯片 1</dc:title>
</cp:coreProperties>
</file>