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6D7-436E-4973-9FCF-9BB4CA58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B4B-F9F4-4AC4-84C1-113FA934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968-F32A-4444-B86E-E61AE044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451-1496-406F-8BEF-61B62543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2C9-C90C-432F-BF27-4BA8BC18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E1BA-2EAD-48E8-BF11-7BBFD0E5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5C2-F1CD-4C67-B115-94F9C3F4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775-961E-4AD5-96B4-5EBD6323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420-92C6-42BE-853D-330821F9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582-2FCA-4E0A-9FB7-D75AC04C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9E0-A186-4AE0-813E-D313C03E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738-D3E6-4E77-B560-E298FF08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496D-D0FC-49B7-ADD1-AA9B49BDAC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亚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愿你的国降临\哈利路亚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26:11Z</dcterms:modified>
  <cp:revision>7</cp:revision>
  <dc:subject/>
  <dc:title>幻灯片 1</dc:title>
</cp:coreProperties>
</file>