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CE7-0EBF-430A-97A6-A39B3781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246-7F2A-419E-A89B-2490A507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9AA-5B51-439A-818C-3B1153CB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69E-43A0-4545-A0EA-86AF5487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3EA-FE94-4B85-8C08-1F6D9AB9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F8C-D66B-455A-8DCE-5B21337F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3DD-F4CA-4C69-8FB2-6D8EC3D9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139-952F-452A-A76D-262695AF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356-DB7E-4CDA-90A4-2153F377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560-8A0F-416E-9593-C35164C2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740-0A62-4FE4-BEF9-1100C923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DB8-182D-4C22-BB64-4E6F678B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3D87-46AF-43C9-89A8-A9DF338FF9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耶稣，耶稣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耶稣，耶稣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5:25Z</dcterms:modified>
  <cp:revision>5</cp:revision>
  <dc:subject/>
  <dc:title>幻灯片 1</dc:title>
</cp:coreProperties>
</file>