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B51-ED51-4C73-9B03-4DFA6775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06C-4909-4A79-9D68-D45F6CBE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4C8-2B32-4992-B8CB-AA161B65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C1F-93E1-4B5F-B6CD-35BDA2B1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DF-3E76-4726-ACD0-8D73FAB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09C-1F7E-46EE-A481-834411B2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5B8-1B8A-49D0-BA59-FA02077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D3F-8FB6-4EED-9932-D3EDD01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402-3A25-4649-90A5-CF68A5C7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6E2-B6D1-4A43-BFC8-389ED6A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388-ECC7-44CA-93B4-592ED565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0D8-1138-4E23-ADFB-34FC1D9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A37-D16E-4DF2-BDF0-422AC6FC0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荣耀你圣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你圣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荣耀你圣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07Z</dcterms:modified>
  <cp:revision>5</cp:revision>
  <dc:subject/>
  <dc:title>幻灯片 1</dc:title>
</cp:coreProperties>
</file>