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我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我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我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我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9:49Z</dcterms:modified>
  <cp:revision>20</cp:revision>
  <dc:subject/>
  <dc:title>你是我神</dc:title>
</cp:coreProperties>
</file>