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哈利路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我神作王了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哈利路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我神作王了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哈利路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我神作王了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30:15Z</dcterms:modified>
  <cp:revision>20</cp:revision>
  <dc:subject/>
  <dc:title>哈利路! 主我神作王了</dc:title>
</cp:coreProperties>
</file>