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73B-E2AB-463F-A9F4-E05E8469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CB8-E0C3-4C07-ACC3-AFCDC100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35F-1FA1-43E2-9EDC-FCB7DD85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052-BF7A-4C27-8F8A-EAE93EC1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688-3512-4335-B110-4B79E948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25C-E2B7-4458-A68F-42E2DB2A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A15-0C7A-4606-898F-5C8E1A97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A49-8CD3-401A-BA32-0A1EBD32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D26-E42C-48C2-BEF0-B752DA17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954-6ACD-487B-B85E-F903E94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54A-BCC2-4771-B151-E4FB6A5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286-20EA-4C7B-B257-4514806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2977-FCD2-48FC-89D1-A8D911FBA2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哈利路，主我神作王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哈利路，主我神作王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哈利路，主我神作王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5:59Z</dcterms:modified>
  <cp:revision>4</cp:revision>
  <dc:subject/>
  <dc:title>幻灯片 1</dc:title>
</cp:coreProperties>
</file>