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B4F-1B92-4BA6-A519-A4AC3C4D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51E-80B3-4206-80A9-84CECB32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A81-F069-450B-AA6C-2D894003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79F-D688-45A1-8885-B8D0EA44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039-5E28-4246-BC57-AAD39B66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5F5-7A85-4272-B0CB-F00DB531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8D2-0F52-4353-8769-29163BD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94F-FB94-4EAF-829C-B581C6C6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B57-BD34-410A-A533-C1AEA4EC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E29-C453-4970-B13C-8ED2F71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60E-5599-433E-8BD7-B8C8775E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9BA-42F0-4A4A-8A69-69F94DF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2DDD-1E61-402D-BE58-93168550FC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她的新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她的新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她的新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她的新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46Z</dcterms:modified>
  <cp:revision>4</cp:revision>
  <dc:subject/>
  <dc:title>幻灯片 1</dc:title>
</cp:coreProperties>
</file>