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CD5-BDF3-4152-8B8A-A515A706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909-DD8C-4E00-8236-C97FB3C3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5EA-5576-4070-9C90-0F22ECBC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544-9BF6-4509-B993-D736418D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E39-95A8-4CE2-9134-28B6D5D5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EEC-5632-4ECE-8049-690DFE8A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0FE-2E0A-46FA-BA96-B6AD291A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B0F-1F89-4E7C-8B83-70D3CCE4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5B1-3891-4B19-B0F1-715C86F8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CB2-F28C-4EF7-BB9C-0B56299B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E32-1A65-4BB5-B852-FD660142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3C8-8C60-425E-AC6D-4D826294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6B17-4572-45B8-8508-544E6B7F7A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是你所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是你所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是你所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51Z</dcterms:modified>
  <cp:revision>4</cp:revision>
  <dc:subject/>
  <dc:title>幻灯片 1</dc:title>
</cp:coreProperties>
</file>