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B26C-D471-4CAB-8B8E-4FA3FF33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A54C-91C5-4704-8660-601ACA4A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CD65-998A-40B6-8F63-3C146937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60E4-FCFF-42F4-BB22-EAD6FBFF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0374-C4C0-4C3C-AEBD-0799B947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CBE1-563C-486A-9079-8DCB8C0B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526D-9B55-4087-90EC-1EBB4E75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71BE-5872-4438-808D-79F4882B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8C56-64DE-412E-9985-9A895B23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810F-C35D-4610-9D1E-71967554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5D19-6619-49B5-A8DE-0B6F9764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1D66-5E2B-4242-8BCF-7961CA85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555D-11D2-4783-B03E-8391A6F5CC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是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是谁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是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是谁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是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是谁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是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盟约\是谁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是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/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E:\music\诗歌\PPT\2\盟约\是谁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4:37Z</dcterms:modified>
  <cp:revision>4</cp:revision>
  <dc:subject/>
  <dc:title>幻灯片 1</dc:title>
</cp:coreProperties>
</file>