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15AC-4FA2-4D35-88F9-71AB9DEF3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5157-04B7-4A35-8F12-C7D0DC179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11BA-7504-4FF9-9762-62CE07536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BA1D-E4A3-4A2E-9AB0-14C16DB60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1064-EC99-4C14-B001-82C328B1D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C2D8-7957-44AE-9220-7A32C9620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48F4-1945-4774-BA90-FD8100D45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7D67-76B5-440D-A4ED-1C3BB39EA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5FF8-6ADA-444B-B3B9-24224B0B9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8593-0056-4CDD-A37C-71D6D597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6A61-25E9-4D33-BB95-37096D79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1B24-A341-4FF0-A415-46B3688C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BAA82-5909-4332-BBF7-20AD0E4D43B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主啊，有谁能像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盟约\主啊，有谁能像你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主啊，有谁能像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盟约\主啊，有谁能像你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主啊，有谁能像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盟约\主啊，有谁能像你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6:12:06Z</dcterms:created>
  <dc:creator>YYC</dc:creator>
  <dc:description/>
  <dc:language>en-US</dc:language>
  <cp:lastModifiedBy>微软用户</cp:lastModifiedBy>
  <dcterms:modified xsi:type="dcterms:W3CDTF">2010-06-13T14:39:06Z</dcterms:modified>
  <cp:revision>4</cp:revision>
  <dc:subject/>
  <dc:title>幻灯片 1</dc:title>
</cp:coreProperties>
</file>