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993D-F18C-406F-8E25-2D0E1013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CEDF-ECC5-4CDB-BCCB-811255FE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CEF8-FF36-482A-A071-AFB2FCC3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0619-BEBB-4EBC-9232-5B964ACD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10D-1DFC-4DD2-992E-81ED5AF0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984-C9B4-4C3B-B6F0-5BF6E707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4D4-25D7-4AE8-9B90-517B356C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4FF-EB5B-426F-9EE8-6896DAC2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B3F4-0224-443A-B571-CF2D12CF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68DD-D24F-4FC4-A2C4-5D689203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316F-26B7-4EA5-BDF1-BC49E28A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CD9A-643A-4C83-B6CC-F47F95E1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7AEE-AFDC-4BDD-8AEB-2E9B26539B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盟约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盟约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盟约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盟约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盟约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E:\music\诗歌\PPT\2\盟约\盟约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7:22Z</dcterms:modified>
  <cp:revision>4</cp:revision>
  <dc:subject/>
  <dc:title>幻灯片 1</dc:title>
</cp:coreProperties>
</file>