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8E4-564A-4B28-92E1-40B82191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B2F-C78A-4F1C-98F6-1A64186D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CEB-0D12-4FE9-902E-D3438467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C6A-5AD3-4526-9075-E9597440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54E-769F-42BE-9780-D44DB31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B6C-050C-409A-95EE-FE9AE097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9E5-FC30-499C-8DA8-2E348D32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5CB-F903-4BDB-98C9-8325635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9DB-5DB9-4BB2-87E9-76CA9441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768-50FB-4EB4-A011-661CDB59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D29-992F-41DF-8672-3797FB8D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DFB-DF24-42FC-901B-208D5235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B27C-B868-4766-9E01-AAD2DFB4C3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心属于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心属于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心属于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心属于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Wendy</cp:lastModifiedBy>
  <dcterms:modified xsi:type="dcterms:W3CDTF">2010-06-15T05:25:40Z</dcterms:modified>
  <cp:revision>5</cp:revision>
  <dc:subject/>
  <dc:title>幻灯片 1</dc:title>
</cp:coreProperties>
</file>