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93A-68A8-4ED3-99D4-9C3191DE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B4E-EB90-4596-970C-C0219A08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8FF-791D-4CF5-ACA1-F5B857DA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9A3-595B-45FC-8DAC-F6ABFE9A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1AC-545D-4B5B-94AD-45397F61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2E8-E4D2-4CE5-8A3C-C4D58F4B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870-3898-452B-9E8B-1B7449CA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327-18F8-4377-935B-A2FF4B7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3BF-EED4-4FC0-A688-45B0BA9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427-2361-4EE0-83B9-6826A03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632-F99A-4B12-8738-8AA49DD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FC0-90C4-4626-AEC8-C368624D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3B6F-430D-48D6-B6E1-AB9AD7BFF6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的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的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的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的爱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2:43Z</dcterms:modified>
  <cp:revision>4</cp:revision>
  <dc:subject/>
  <dc:title>幻灯片 1</dc:title>
</cp:coreProperties>
</file>