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8B4-9133-448A-9C76-EEF839C4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9B0D-BFCE-4A62-8692-DE3A3A82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FDCE-46F7-4D43-993F-48A25EAA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776-A653-43F4-9F00-E2C59127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0983-222C-4009-A33C-0C620F68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963B-2EA3-4826-A8EF-60E40E30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16F8-D2C5-4EE3-B9D7-B3A7A3BC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2AC-AEC7-46FE-96F8-1A1B68B0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F6A-2952-4398-A785-44F38DEC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81F-D767-4560-BB6B-3BEB6C53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8E0-F422-482F-8E3F-33730EA0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2F22-4B76-457D-9B1D-F74F92AE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3116-C396-4593-9165-7DD4B68979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因此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因此我爱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因此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因此我爱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因此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因此我爱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3:23Z</dcterms:modified>
  <cp:revision>4</cp:revision>
  <dc:subject/>
  <dc:title>幻灯片 1</dc:title>
</cp:coreProperties>
</file>