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BF1D2-3776-4A50-8D79-2D9FFF0F3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62026-1273-40C9-AC3B-37660DC4B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85E23-2EAE-4B98-8F0B-A924BBD58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DC040-4BD2-4301-B658-7EC19B2E8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3048B-5C31-43EA-8828-236148783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3F873-A2D0-4C0A-8770-0A39707F9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2678A-07C5-45E1-902B-F14705482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59664-E7A4-4BBB-B9B0-464D63F70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F658D-914B-46EB-B74F-94B27095A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8AFAF-C543-42AE-A34B-9BAA704D5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2B7F0-931D-4CBE-987F-75840C5E6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351F6-311C-4C4C-9971-7E85A2900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F31D2-51B5-4537-B504-B800022808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來充滿我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E:\圣洁活祭\繁英\來充滿我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來充滿我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E:\圣洁活祭\繁英\來充滿我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來充滿我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3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E:\圣洁活祭\繁英\來充滿我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來充滿我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E:\圣洁活祭\繁英\來充滿我\幻灯片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中国</cp:lastModifiedBy>
  <dcterms:modified xsi:type="dcterms:W3CDTF">2011-03-22T15:42:01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