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3EDF-EE99-48E6-8A25-8B18681F0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7168-86DE-4A2F-BED8-CFB46643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DF3B-8048-428C-8B3F-658DFC242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F447-1E6F-48F6-9B43-7877E9838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E9BE-4969-4D71-883C-B314D650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0F50-3B97-4731-BF30-EA46B3D5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0179-3005-4361-B560-3BB85B2A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45F6-5CA9-4F9C-A7C7-64C25835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A030-7B34-4722-9FDE-F210A0F7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D971-3A56-4599-96D0-3FDE0280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DB78-5F19-4942-9591-951D04AD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1AB8-E329-4A33-B45F-1883B717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79D6-063E-4F61-BE30-5AF7D69BE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简体\我的幫助從何而來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17220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简体\我的幫助從何而來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17220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简体\我的幫助從何而來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简体\願神興起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:\圣洁活祭\简体\願神興起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E:\圣洁活祭\简体\願神興起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 Liu</cp:lastModifiedBy>
  <dcterms:modified xsi:type="dcterms:W3CDTF">2023-03-27T22:28:01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