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492C-0F21-438D-847E-7DA23955F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892E-B700-4C8D-AC0D-93BEF99E3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190A-DF91-4A83-878F-8D8C8E3D9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EF70-0F7D-4A9A-8E0D-D22DA1B69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C705-C1FE-48D4-BC00-57499FD12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ernity 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me_eternity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ernity 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e_eternity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ernity 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me_eternity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ernity 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me_eternity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49:50Z</dcterms:modified>
  <cp:revision>26</cp:revision>
  <dc:subject/>
  <dc:title>永遠 Eternity</dc:title>
</cp:coreProperties>
</file>