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0A33-EE1D-4074-9451-1588BD854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BC03-97A6-493F-BBFE-7BCA4583A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BCE3-FE89-4236-8F80-20C51F5EF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79E-4E63-4F86-9BED-FDE088C2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3920-C0D5-4279-81DA-B2D89DEC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18Z</dcterms:modified>
  <cp:revision>62</cp:revision>
  <dc:subject/>
  <dc:title>我們來讚美主 It’s Time To Praise The Lord </dc:title>
</cp:coreProperties>
</file>