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B338-75F4-45B2-958B-783A3E7CC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A352-45B5-415D-810A-1B245C22D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8E85-0FB1-4509-9C75-0F1C2A02C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ABD5-5011-409E-9296-CEC04A046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8CC6-96F3-4BE2-A942-F3DDE170D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d Jesus, I Love You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em_ilove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d Jesus, I Love You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ilove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d Jesus, I Love You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ilove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d Jesus, I Love You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m_iloveyou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26Z</dcterms:modified>
  <cp:revision>58</cp:revision>
  <dc:subject/>
  <dc:title>主耶穌, 我愛你 Lord Jesus, I Love You</dc:title>
</cp:coreProperties>
</file>