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4DB9-694E-418B-A6BE-6693E9A9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7925-72C6-4248-A308-6488EBC82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4B4A-425B-4CBB-ACD0-FDB551B2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9310-DFEE-4AAF-84A6-B0D17BAE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e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1Z</dcterms:modified>
  <cp:revision>55</cp:revision>
  <dc:subject/>
  <dc:title>我的救主 My Savior</dc:title>
</cp:coreProperties>
</file>