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2F1-0077-4F10-BB4E-56914507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25B3-C924-40C3-836A-66E1322A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247B-2B8A-42CD-8059-5C09565D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A24-2E03-4662-AF1C-44CC2D5C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e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2Z</dcterms:modified>
  <cp:revision>50</cp:revision>
  <dc:subject/>
  <dc:title>我的最愛 Greatest Love Of Mine</dc:title>
</cp:coreProperties>
</file>