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EC2-49FA-4DE9-8BA4-8323F95F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D58-AB74-419A-B70E-2C24B08E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98C-E90A-469C-A245-5E3F09C8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4Z</dcterms:modified>
  <cp:revision>41</cp:revision>
  <dc:subject/>
  <dc:title>把握今天 Seize The Day</dc:title>
</cp:coreProperties>
</file>