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88F9-9ADB-4B5E-BFEE-C61C2831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A3DB-047C-4EE6-869F-88DF8476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9BB-77CA-4D7E-BE97-23C698BE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EC6C-6359-40FE-90CC-95CCDB8B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56A-5F9C-49E8-97A9-64D228D3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3Z</dcterms:modified>
  <cp:revision>45</cp:revision>
  <dc:subject/>
  <dc:title>片刻的安寧 Moment Of Peace</dc:title>
</cp:coreProperties>
</file>