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AE24-66C0-4B52-9E57-B570896C0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361D-B3C9-4FD5-8DFC-0E98E3808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EA7F-6682-493F-93CE-66E13AADE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5217-64E2-4E22-A76F-1C19878CE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alm 8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em_psalm8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alm 8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psalm8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alm 8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psalm8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07Z</dcterms:modified>
  <cp:revision>69</cp:revision>
  <dc:subject/>
  <dc:title>祢的榮耀彰顯於天 Psalm 8</dc:title>
</cp:coreProperties>
</file>