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DFC70-566E-474A-A072-ADD6829557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F1A3D-2402-4F83-B364-7235263B70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84498-42A3-409E-9BE9-FA6215DC90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65048-91B8-4290-B27D-5F6BE01A14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u Are My Favorite  1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3" descr="em_favorite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u Are My Favorite  2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em_favorite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u Are My Favorite  3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" descr="em_favorite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5T20:15:44Z</dcterms:created>
  <dc:creator/>
  <dc:description/>
  <dc:language>en-US</dc:language>
  <cp:lastModifiedBy>微软用户</cp:lastModifiedBy>
  <dcterms:modified xsi:type="dcterms:W3CDTF">2010-06-13T14:49:41Z</dcterms:modified>
  <cp:revision>30</cp:revision>
  <dc:subject/>
  <dc:title>You Are My Favorite</dc:title>
</cp:coreProperties>
</file>