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16D1-2E90-420B-B53F-4DE251AA0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F1C0-D10A-4C0E-BABF-B65A294A2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44C2-0809-4D7B-BAE9-8255B7C54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Your Sanctuary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e_sanctua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Your Sanctuary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me_sanctua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Your Sanctuary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me_sanctua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46Z</dcterms:modified>
  <cp:revision>23</cp:revision>
  <dc:subject/>
  <dc:title>進入你的聖所 In Your Sanctuary</dc:title>
</cp:coreProperties>
</file>