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1021-FD69-4864-A54A-91F81DC93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F73A-88DA-4397-963B-5DFCF7B61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6DD1-1BF4-47DF-85AB-D9B73804D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6384-2A82-4E56-A06F-EB8FADD3C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1097-B6A4-4DED-8CD7-93FB62CCB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比這一切更美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Are More Beautiful Than These 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em_beautiful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比這一切更美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Are More Beautiful Than These 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m_beautiful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比這一切更美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Are More Beautiful Than These 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em_beautiful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比這一切更美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Are More Beautiful Than These 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em_beautiful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0:21Z</dcterms:modified>
  <cp:revision>33</cp:revision>
  <dc:subject/>
  <dc:title>你比這一切更美麗 You Are More Beautiful Than These</dc:title>
</cp:coreProperties>
</file>