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550-0F76-43FB-8BCC-A1C1BECB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A711-BB5E-43F0-B3F9-F04576C4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A1A3-2A07-47E8-B0C8-C3E252EB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70E4-0D38-4DCE-9D25-ED4708E4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4B1F-D212-4412-A10B-BF027D852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m_thank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8Z</dcterms:modified>
  <cp:revision>65</cp:revision>
  <dc:subject/>
  <dc:title>謝謝祢, 耶穌 Thank You, Jesus</dc:title>
</cp:coreProperties>
</file>