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8121-147A-4645-9BFD-9DCCF7AA7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42BA-3ABF-4037-9F06-B6760CC75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F857-9E39-4CAE-999D-6CCB3FB90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DEC3-0657-439A-AA69-EE583E901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m_glo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glo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glor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37Z</dcterms:modified>
  <cp:revision>37</cp:revision>
  <dc:subject/>
  <dc:title>榮耀都歸神羔羊 Glory To The Lamb Of God</dc:title>
</cp:coreProperties>
</file>