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9A874-A89D-4622-9336-3641DE1B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0EA7-921F-4A66-9063-219BCCF2F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5982-5F5F-4C6F-B633-2ED620F4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9410-2DCA-4A2C-BF93-434CD1B8E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2" descr="m_greatestlov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greatestlov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最愛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greatestlov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9Z</dcterms:modified>
  <cp:revision>52</cp:revision>
  <dc:subject/>
  <dc:title>我的最愛</dc:title>
</cp:coreProperties>
</file>