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95592-C12B-401F-901A-D8D56FF18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A7A2-A9B2-4325-B18D-FF5F2414C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84844-034E-4AB9-B082-C411EC0CC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DE650-E004-4CEA-A6AC-4FC9BE1BC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A0B69-D0BB-4A8A-AA5B-97092EF26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永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m_eternity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永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m_eternity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永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m_eternity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永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m_eternity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0:59Z</dcterms:modified>
  <cp:revision>27</cp:revision>
  <dc:subject/>
  <dc:title>永遠</dc:title>
</cp:coreProperties>
</file>