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2112-CF10-4385-9FBD-E8E61DB60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7233-BDBE-47E1-BA44-CC0C30821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FDB7-E653-4022-9D4E-FC127BB6F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3774-853B-4528-81B3-251144E16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ECFE-C332-4B4A-A5AA-07399902A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_itstim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itstim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itstim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_itstim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21Z</dcterms:modified>
  <cp:revision>62</cp:revision>
  <dc:subject/>
  <dc:title>我們來讚美主</dc:title>
</cp:coreProperties>
</file>