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FAB1-EF0D-4D41-82BE-67EB507F8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7472-509F-4A8D-B76D-CEC92B94C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8DB4-74C2-4703-AD85-D1EC4D66E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0E18-EBF3-440D-8F54-E2328AA7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B17D-42AF-442E-A682-4D9D67F1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beautiful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beautiful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beautiful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比這一切更美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_beautiful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03Z</dcterms:modified>
  <cp:revision>35</cp:revision>
  <dc:subject/>
  <dc:title>你比這一切更美麗</dc:title>
</cp:coreProperties>
</file>