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287F-5B78-4375-8602-F25E2DCC7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CCEC-3A37-4625-AA0F-4F132228B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DA0F-00E0-4B18-956C-9659A07DA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6484-3981-4366-8804-C6D84945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4" descr="m_savio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savio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savio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0Z</dcterms:modified>
  <cp:revision>56</cp:revision>
  <dc:subject/>
  <dc:title>我的救主</dc:title>
</cp:coreProperties>
</file>