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7402-BE49-4A98-BA16-8683BCEF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913-A3B9-49BC-A2C5-5D56B32E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8F68-264F-4BC7-A5CF-C8667BC41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E306-B02A-45DC-A275-CF13BFFC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m_ilove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love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愛你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love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5Z</dcterms:modified>
  <cp:revision>59</cp:revision>
  <dc:subject/>
  <dc:title>主耶穌, 我愛你</dc:title>
</cp:coreProperties>
</file>