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D3CA-0556-4807-BBAC-17F72CC9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F617-B8DD-41B1-A655-04295579A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6012-6745-4E02-843A-93BA68A5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m_glor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榮耀都歸神羔羊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glor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3Z</dcterms:modified>
  <cp:revision>38</cp:revision>
  <dc:subject/>
  <dc:title>榮耀都歸神羔羊</dc:title>
</cp:coreProperties>
</file>