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ED29-0FB1-4948-A8B0-451FD6F47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84EA-2AB6-451B-BCBD-DB8024802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39EF-6BB1-4CD4-A518-CEF6EC11D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favorit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My Favorite 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avorit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37Z</dcterms:modified>
  <cp:revision>31</cp:revision>
  <dc:subject/>
  <dc:title>You Are My Favorite</dc:title>
</cp:coreProperties>
</file>