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1784-3051-47C4-A130-B94678B5B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34EA-19CF-4DF1-9843-A621FB0DC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FB50-11C8-4D64-AEE4-B36C7193A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m_sanctua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m_sanctua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進入你的聖所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m_sanctuar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4Z</dcterms:modified>
  <cp:revision>20</cp:revision>
  <dc:subject/>
  <dc:title>進入你的聖所</dc:title>
</cp:coreProperties>
</file>