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C318-6720-4621-A392-40FD4EDC4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0EB0-DA9E-43FC-A52C-087C84E7A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7DB9-785B-47E2-A600-A2AAD91DD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把握今天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m_today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把握今天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m_today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40Z</dcterms:modified>
  <cp:revision>42</cp:revision>
  <dc:subject/>
  <dc:title>把握今天</dc:title>
</cp:coreProperties>
</file>