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72F0-A230-46BE-A33C-CA9D54AE6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09AF-4531-4156-A036-D1C4FDA33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CFA9-9BA3-48E1-8012-77DA13153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0606-6BB0-4A9E-BCE1-6A8DAADBB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2F01-76A7-4099-A8F8-852AD992A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m_moment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moment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_moment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片刻的安寧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_moment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17Z</dcterms:modified>
  <cp:revision>47</cp:revision>
  <dc:subject/>
  <dc:title>片刻的安寧</dc:title>
</cp:coreProperties>
</file>