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A3A-1702-44E2-BA2F-93769191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884-4AA4-4991-8038-B9C2038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5AF-C7EA-4B3D-B42A-DC807D7B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EFA-5030-452A-BBC9-DF88850F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30D-60D1-4B5F-97FA-5E5139B5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309-0E35-461F-84E4-21694D53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5EF-6902-45DA-89DA-B871B0A5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303-DB8B-4250-878B-A69653BF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D64-94D1-46DA-AFCC-7359719A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32B-959C-4DDF-8C15-DC3B64DF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709-AC78-452B-8FB1-7D397B12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B1D-2D97-457D-B277-BB5A1111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439D-1F2A-4FF3-BA99-71DD162DB4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的最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的最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的最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8:18Z</dcterms:modified>
  <cp:revision>4</cp:revision>
  <dc:subject/>
  <dc:title>幻灯片 1</dc:title>
</cp:coreProperties>
</file>