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6E5-EFF2-4131-93ED-A65CC174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F00-F606-4312-9BDC-DA034D45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C0F-9895-40EB-9993-26C10E88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150-A521-4C93-83EC-EB7338EB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0C7-4172-4AE5-BA01-8865FF34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171-D5AB-4904-8C7B-595C7699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45F-B313-4C6E-8456-8CC11830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A1E-F29F-4165-A1BE-A23BA130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CB2-923E-45A4-8914-2A1AD73F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0E6-7595-44FC-B691-0DE1AB32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BB3-3F13-489B-B816-0A1A538A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3F1-7609-469A-8552-2455E5E2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6D45-9738-4140-A42D-07FD0FB9CE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03Z</dcterms:modified>
  <cp:revision>5</cp:revision>
  <dc:subject/>
  <dc:title>幻灯片 1</dc:title>
</cp:coreProperties>
</file>