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81B-D656-4FCB-86AE-6799AB56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3E3-1C6D-4708-83A6-4C414462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A2E-DEC6-4969-ADBD-6BC01447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4D9-84FC-4B94-96BB-CBF55994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9FD-64DF-47B2-AAD4-430E7226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648-86F6-4E22-B5B2-C23E17F7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96D-1E7D-4DC0-B863-BC5E434A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D18-CD58-48BA-A3EB-B9E48BF8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ACFF-A9CB-494F-8431-1271ED49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79B-745E-433A-84F4-BC949AAC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34F-1802-4177-8B8C-299708D1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664-5B6B-4EC8-B98D-E37782A1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EE7A-7B5E-4303-B987-28F07C9E2F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你比这一切更美丽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你比这一切更美丽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你比这一切更美丽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你比这一切更美丽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5:18Z</dcterms:modified>
  <cp:revision>4</cp:revision>
  <dc:subject/>
  <dc:title>幻灯片 1</dc:title>
</cp:coreProperties>
</file>