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524-AA0C-48E8-ABAB-C1763EB2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49A-6E32-4A35-9199-660B70A2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B16-EA1B-4197-BFE8-77B9BAF3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031-7562-4450-8D8B-F83CD0B4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C22-6B99-4D6C-BF6E-23D220E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D32-46D1-4055-9CDA-FDF58502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804-8FAF-497D-9661-AB34E71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5DC-06AE-4966-95BE-A3A9528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B30-DE77-4BA6-8DAC-3AB6FFE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1C7-58C4-404E-B084-A7B62E7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FF4-CF5B-4CF0-A1D3-664C2A6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807-ADD7-45A6-9037-B0FFB0F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3E95-90E5-4580-88D9-9B06827C55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主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主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主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主耶稣，我爱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7:53Z</dcterms:modified>
  <cp:revision>4</cp:revision>
  <dc:subject/>
  <dc:title>幻灯片 1</dc:title>
</cp:coreProperties>
</file>