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3C33-BB72-4B4B-AD8A-AA4D01C69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12B2-B7EA-48AB-98A5-710B6984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30A1-9A60-413F-962E-2CE68194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6151-2D45-42D5-AAD6-30FE1A93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070E-1FE8-48E3-9B89-74F10458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6DB1-7BB2-4858-8C58-C32619B4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062C-35D8-476D-B876-7B7E9F9D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0588-1D61-4D57-A231-63B28DD4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146F-5892-4BED-81A3-DCEEB696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7A1E-2C7F-4A67-9FB6-DF194E3E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83B3-BF14-4CE5-931A-5238D5B6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DE22-B1D6-409E-9B6E-E9361FF3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0A94-17CD-4282-8A7F-24A9E38608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荣耀都归神羔羊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荣耀都归神羔羊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荣耀都归神羔羊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荣耀都归神羔羊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0:19Z</dcterms:modified>
  <cp:revision>5</cp:revision>
  <dc:subject/>
  <dc:title>幻灯片 1</dc:title>
</cp:coreProperties>
</file>