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F35C-8F47-428F-9A5E-8F9C0E08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00E-E7A9-4B3E-B193-4669503E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C6C-BA31-4886-89E5-2465B74B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6A8-8731-4172-AF53-E0617884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602-4245-46A5-8A3F-5C55FDC4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F39-6EBF-46B4-A4C3-570156AC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BF8-6C0D-4D1B-9518-5D31BB32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CB5-1626-4F01-93BB-4ED8F5BB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7E3-DE9F-4B7C-8889-ABD01CF2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F1B-59AB-4DCA-9EE4-19ED103A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83AC-15DD-44A1-BD5D-96460E5A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D20-9162-4371-9E59-8A25C0BD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1699-FE09-422D-B9A9-4B8016A5AB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片刻的安宁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片刻的安宁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片刻的安宁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片刻的安宁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3:56Z</dcterms:modified>
  <cp:revision>4</cp:revision>
  <dc:subject/>
  <dc:title>幻灯片 1</dc:title>
</cp:coreProperties>
</file>