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16C-B1C3-48DF-ABB0-D45B19CB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CA4-A1FF-44F9-BB66-DB3F8F82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8E2-905D-40A5-A000-19B10434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7BE-27B6-4980-A302-1442400B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D00-2163-4E87-9B1E-061FD758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D02-755A-4D44-AE01-E4B93638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786-47F0-49D4-A722-0531A546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7D7-95A9-4C98-BB63-0F1CABF0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7DD-56E5-42AE-88DD-350C3E17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ADE-0263-41EC-A4E0-9A2C069B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919-6BAF-4ABB-8D96-690F5360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083-E30A-4214-9085-5E6D406A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3055-8939-4A18-A7AE-5EFBAE48A6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are my favorite 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You Are My Favorite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are my favortie 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You Are My Favorite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1:02Z</dcterms:modified>
  <cp:revision>4</cp:revision>
  <dc:subject/>
  <dc:title>幻灯片 1</dc:title>
</cp:coreProperties>
</file>