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79E2-8BBC-421D-A0D4-7D052F58E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92B1-26A1-4F2C-853E-BD52AFD95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9036-97CD-47C1-A60C-BD135FADC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C9BC-56BF-426C-B78A-0F8E7FF2A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CCCE-3F8A-47A6-9C2F-B5A976386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883E-DBFA-4283-8C7D-6FD162C87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604D-8C3A-4F6C-84FC-50F167767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3EFC-E2E4-4E48-AC72-63441B727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F162-CC44-446A-9DFD-2FF5362B7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C797-EED1-4CD5-8AD6-1EFCDD1A6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4FC2-4587-4338-AF72-3398A4188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FFF1-7127-47A8-B02B-EAD755405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87F67-0736-4A9B-9504-6CCAAF2CCF5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我们来赞美主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永远\我们来赞美主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我们来赞美主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永远\我们来赞美主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我们来赞美主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E:\music\诗歌\PPT\2\永远\我们来赞美主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我们来赞美主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" descr="E:\music\诗歌\PPT\2\永远\我们来赞美主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4:47:40Z</dcterms:created>
  <dc:creator>YYC</dc:creator>
  <dc:description/>
  <dc:language>en-US</dc:language>
  <cp:lastModifiedBy>微软用户</cp:lastModifiedBy>
  <dcterms:modified xsi:type="dcterms:W3CDTF">2010-06-13T15:04:33Z</dcterms:modified>
  <cp:revision>4</cp:revision>
  <dc:subject/>
  <dc:title>幻灯片 1</dc:title>
</cp:coreProperties>
</file>