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9682-024D-4373-970B-A20255D1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CF1B-2C59-4023-A8D6-D16C1197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B18B-1029-4902-AAE8-C8BBA207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FA9-347A-4D9B-A493-E3B14F7B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0254-8DB5-4816-8B93-3DD19FEC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CBD-2413-44B0-AB16-ECACAEAB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7277-551C-4897-AA2A-E4DBE416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13A1-DCAF-4D77-8DFF-D0AD14EA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198C-8184-409D-8687-144F6BCD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8564-1EB1-4FD7-8C0B-8FAF8491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550-0567-4A1B-A15A-0F28FE3B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EA01-2B07-4E5E-8F65-C1ED32CF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B259-7E4C-4768-A6A4-13B1574BD9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把握今天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把握今天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4:53:36Z</dcterms:modified>
  <cp:revision>4</cp:revision>
  <dc:subject/>
  <dc:title>幻灯片 1</dc:title>
</cp:coreProperties>
</file>