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61D-7501-43CD-835B-635B5716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9B1-EDCA-4E04-B042-0EA9EDB8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D2F-9D3A-4D62-9E4C-57A2E79E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CC9-12D4-4095-BCAD-F6FB50D4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3FC-A4F5-4581-93D6-C2E7532E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363-93EB-462C-90A9-45A4964A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68D-1597-4B7E-B384-9B397047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34F-1700-42C2-A24D-644D10BB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CE4-9F71-459E-B24C-64E7D0F4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47C-6359-4ED3-9FE2-B345BB7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9A1-EAC0-4D8F-9709-3D70B09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98F-360E-447C-B337-65FF8943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AAFF-6DE9-4B2D-95FA-1EA515EF37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永远\永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永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永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永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37Z</dcterms:modified>
  <cp:revision>5</cp:revision>
  <dc:subject/>
  <dc:title>幻灯片 1</dc:title>
</cp:coreProperties>
</file>