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753-95E9-4798-8946-B918BFC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C7B-86C3-4949-8F9B-BBB4791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559-4A7C-4609-8308-9B753D1C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DC4-D3E7-4CB8-8CFB-7A5F16D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BC8-2903-4DE6-952E-2395E641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9AA-8ED0-4AAD-BEFF-641E97E8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C3F-1C7B-4E2E-AAF9-AAF0A97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C2B-E700-4D22-A738-11212DC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92F-8693-49D3-80AF-7EC8790E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646-A7EA-430E-A434-A685A2F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FE8-6B1E-4142-9CD6-1BDE1C2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5BA-F1D1-4077-A804-E4CC93B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584-2CA3-498C-9481-BCBFA76431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的荣耀彰显于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的荣耀彰显于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的荣耀彰显于天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11Z</dcterms:modified>
  <cp:revision>4</cp:revision>
  <dc:subject/>
  <dc:title>幻灯片 1</dc:title>
</cp:coreProperties>
</file>