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0ACB-8A23-46AE-BCAD-6A4271BD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CA78-2A07-473E-AF73-63DF3E38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62E5-3095-418C-92DC-A4AC90A12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301D-2B00-4218-950A-7F5DFF08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3942-B6B1-4140-B55D-CAFA7309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FB4B-912F-4B38-ADF7-76C64091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99A0-5E37-4945-AF52-FD976EC2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1DC0-BEE6-423A-B430-5FC7DFFC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AD44-A093-4BE9-8427-A51C1211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9C97-418D-4B1A-8A85-491CE11A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87E7-2900-4C64-9F79-3A758DE0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FE92-DA99-4F88-9121-4C17A74D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9D69-0822-4386-BDD8-C0EB08DAD4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进入你的圣所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进入你的圣所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进入你的圣所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进入你的圣所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进入你的圣所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进入你的圣所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2:33Z</dcterms:modified>
  <cp:revision>5</cp:revision>
  <dc:subject/>
  <dc:title>幻灯片 1</dc:title>
</cp:coreProperties>
</file>