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EEDF-01AF-420B-B965-C9D71B18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4E66-E276-4739-AE5D-1081D2B6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2F4F-D0DD-4140-9F62-982E97C5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A821-70A7-41DC-B839-80C70C8E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DFE6-F764-4592-A457-B46F0C65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F5E4-4B1C-4DFA-9322-96A3879B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1919-59B9-4D9F-A3BA-8C3A668E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5EB-5038-4489-81A3-9D042D6C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E279-A7FD-4F4F-8DE9-6976CC73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70C-C8FF-42DF-BAD3-0632010E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13F-5722-40D0-A329-1E556E35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95A-C540-4FBA-A818-0274A611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AFFA-BC7C-4429-B514-9777852E6D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谢谢你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谢谢你，耶稣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谢谢你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谢谢你，耶稣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谢谢你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谢谢你，耶稣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谢谢你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谢谢你，耶稣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4:54:16Z</dcterms:modified>
  <cp:revision>4</cp:revision>
  <dc:subject/>
  <dc:title>幻灯片 1</dc:title>
</cp:coreProperties>
</file>