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上好的福分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上好的福分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上好的福分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上好的福分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40:50Z</dcterms:modified>
  <cp:revision>9</cp:revision>
  <dc:subject/>
  <dc:title>上好的福分</dc:title>
</cp:coreProperties>
</file>