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和華是我的幫助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和華是我的幫助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38Z</dcterms:modified>
  <cp:revision>11</cp:revision>
  <dc:subject/>
  <dc:title>主耶和華是我的幫助</dc:title>
</cp:coreProperties>
</file>