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讓小小燈火四處燃起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讓小小燈火四處燃起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讓小小燈火四處燃起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0:19Z</dcterms:modified>
  <cp:revision>10</cp:revision>
  <dc:subject/>
  <dc:title>讓小小燈火四處燃起</dc:title>
</cp:coreProperties>
</file>