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B959-5FE9-425B-B2B8-B8EA7E532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DAF7-7E29-44E2-8D2B-FE621CEB9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C81A-25D4-43DA-BA99-DD7F2B257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D901-BE6A-402B-919C-A886047D7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CC69-DA04-43D8-9A9A-F46B5722C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E504-AB88-4B83-A3EF-1C7B21E8B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F075-EA70-4840-A1E7-44188F5C2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BFA1-C255-43FE-94C1-C190079C6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9E7F-0496-4DC1-9E5E-D2D0937A2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B0E8-C1C1-4F21-9321-81E1C385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660F-891F-4E08-987B-0AA220B8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75A6-2CDB-485D-ACEB-468A0235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2F7F8-90FF-4666-B935-781126741F1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上好的福分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我愿意\上好的福分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上好的福分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我愿意\上好的福分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上好的福分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我愿意\上好的福分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上好的福分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4/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E:\music\诗歌\PPT\2\我愿意\上好的福分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上好的福分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5/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E:\music\诗歌\PPT\2\我愿意\上好的福分\幻灯片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4:43:51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