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720-6E50-4734-B32F-5375B7D8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EB1-DD15-47DC-89AF-93D81329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1CD-752E-4099-B5BA-DD238EC7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A50-07A2-4A81-9C1D-618AC89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F6F-DEBE-4B0D-A06E-14EA1528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1EE-C8BF-482D-985F-0ADA65AD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BE6-60FE-473D-BB13-18FA1D9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C30-19B3-47F1-8BEB-821A9DB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958-43A1-4A2A-B65F-38AF1BA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726-A590-4E1C-BC89-F0C47F6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9CF-9387-45D0-8BB1-D53E4B6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906-9350-4AEB-9D98-02182D5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96776CD-35A2-4012-960A-88754C956C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837000"/>
            <a:ext cx="91436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CHRIST LIVING IN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31572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21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breathed the breath of life inside 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Spirit dwells within, transforming my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 by faith, You've purified m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es, by faith, You've justified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To my sins, I'm captive no mor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For the pow'r of Christ sets me fre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It's no longer I who liv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But it is Christ, living in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477000"/>
            <a:ext cx="914364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Shining out Your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glorious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Living out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r bountiful l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76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20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