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3-04-14T17:02:48.816000000" idx="1">
    <p:pos x="5758" y="36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E9D-41A5-4BAF-867B-156BC561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91B-1296-4BF1-951B-4CB45D8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AD9-3BC9-4382-8D46-0AE42A83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C77-C9B5-4538-97A9-7F9D0D31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270-A4A2-4DA8-9CD7-8708B60C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D1D-7801-40BF-A1EF-B5C0ACBC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EF6-0910-4458-A469-FF07DD32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F78-7F64-46BE-8F4A-1B10C177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2CA-28E3-442A-BF4A-EADF710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1BF-91CE-42EF-B0D4-9F7A006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FDC-E8AD-48E0-897C-E9989B4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BEA-BFE9-4D0B-8623-DD887A5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B2BDE45-CAEF-46B5-84A5-F40A85FFD6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65840"/>
            <a:ext cx="914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0" y="2061360"/>
            <a:ext cx="9139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DFKai-SB"/>
                <a:ea typeface="DFKai-SB"/>
              </a:rPr>
              <a:t>SONG OF THE BRIDEGROOM (JOIN 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et us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Join Me;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et us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rule the heav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I can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ith You, lover dearest, one in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be one. Perfectl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-22320" y="332640"/>
            <a:ext cx="9134280" cy="59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1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 aa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You and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rule the heave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e shall walk on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42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and me, Lord, You and 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alking with You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Where You may go, I will follow Your lea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GungsuhChe"/>
              </a:rPr>
              <a:t> (2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Endlessly, endless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374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5:54Z</dcterms:modified>
  <cp:revision>17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