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D09-DFE4-45BB-B14C-DC08F41B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DD6-C84F-4E67-826F-1975E7B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26F-C4AF-4D89-9173-08593872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AC2-FC30-4D61-B4A3-336E68C6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908-326D-4AB3-9F9E-F1FCA113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9BD-5D48-42BC-A43D-97E9E52D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584-85F0-4EB3-BE0A-978B3B8F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0F5-4A0F-4727-BEA0-119608A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D62-723B-428D-8230-961549DC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58D-7A91-4018-AEAD-4F52130B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D53-A264-4FE7-882F-20FAD659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154-5CDB-4875-99CA-A818593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852C4DC-9F1E-4615-8E89-F7436EB741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13320" y="477000"/>
            <a:ext cx="91479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385720"/>
            <a:ext cx="91436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720" y="2061360"/>
            <a:ext cx="9171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ETERNAL LO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0" y="577224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0" y="477000"/>
            <a:ext cx="91335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ee, the new earth and heaven are her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Gone is all death, and gone are all tear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Lamb and bride, together at las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Eternally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9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748080"/>
            <a:ext cx="918288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Long in the past, it came to God's m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He'd create a virtuous brid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make a world on which she would thriv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In paradise.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720" y="405000"/>
            <a:ext cx="915120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ow He'd enjoy the cool of the day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hen He would walk that beautiful pl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ith His true love! -- till she bought a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tore her awa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838080"/>
            <a:ext cx="9143640" cy="53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477000"/>
            <a:ext cx="914364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is act of love performed for her sak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elted her heart; her soul was aw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Freed from her guilt, and brimming with jo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is hand she would t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0" y="477000"/>
            <a:ext cx="914364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before long, the trumpet shall soun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Calling the bride, caught up in the cloud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Bringing her home, to where she belong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Father's hous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9360" y="838080"/>
            <a:ext cx="913428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762</Words>
  <Paragraphs>1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37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10</vt:r8>
  </property>
</Properties>
</file>