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9F28-8B36-4B22-B0FD-80A4CF69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28F-0318-4263-91C3-FEECEF67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DE3-D319-4BD9-9225-F560FA46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FDAC-D1B7-447D-B31F-9B29E9BB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FF6-B762-4B6D-9098-0F38ED2F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C5B2-B006-48E7-9BF2-592C3F61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0C9B-1CD6-4432-8A5F-EF1E20EF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9EC-11C2-4CD9-AB5D-87203F54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39AD-8A21-4C12-BE25-003FED33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FE9F-7FBA-4CC4-AE1C-2E70182B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FECD-A3EB-4351-B196-48432F39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215E-4F56-44DC-847D-D29ADCF8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11DC037-0852-4735-BC8F-64EE8999EB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54864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-720" y="2277000"/>
            <a:ext cx="9143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5640" y="2061360"/>
            <a:ext cx="91429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I'M NOT ALO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6971760" y="64022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0" y="692640"/>
            <a:ext cx="914364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Though few the friends on this way I choose to go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You give me strength to seek out the narrow road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開我眼睛 看見祢就在這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Help me to see that You're traveling with m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With You I'm safe; with You I'm not alon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3"/>
          <p:cNvSpPr/>
          <p:nvPr/>
        </p:nvSpPr>
        <p:spPr>
          <a:xfrm>
            <a:off x="6971760" y="64022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692640"/>
            <a:ext cx="9143640" cy="52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Though few the friends on this way I choose to go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You give me strength to seek out the narrow road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將愛完全 讓我心一無畏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My love complete, help me cast aside my fear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With You I'm safe; with You I'm not alon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60" name="文本框 3"/>
          <p:cNvSpPr/>
          <p:nvPr/>
        </p:nvSpPr>
        <p:spPr>
          <a:xfrm>
            <a:off x="6950160" y="6382440"/>
            <a:ext cx="24343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0" y="692640"/>
            <a:ext cx="914364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每當我轉向祢 祢已在這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Lord, when I turn to You, You have turned to m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每當我親近祢 祢就與我親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GungsuhChe"/>
              </a:rPr>
              <a:t>When I draw close to You, Already You've drawn cl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尚未求告 祢已應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When my pray'rs are but thoughts, You've answered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使我喜樂滿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In You my joy o'erflows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6971760" y="64022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"/>
          <p:cNvSpPr/>
          <p:nvPr/>
        </p:nvSpPr>
        <p:spPr>
          <a:xfrm>
            <a:off x="0" y="765000"/>
            <a:ext cx="9143640" cy="53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Though few the friends on this way I choose to go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You give me strength to seek out the narrow road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愛既完全 將一切懼怕除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My love's complete, and my heart is free of fear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GungsuhChe"/>
              </a:rPr>
              <a:t>With You I'm safe; with You I'm not alon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  <Words>444</Words>
  <Paragraphs>7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5:17Z</dcterms:modified>
  <cp:revision>13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