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BEC3-344E-4CAB-978B-BEACAFAA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1D4E-4468-4294-9242-7476D8ED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94E0-7665-4540-A372-82103556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4DA5-E4C0-48CA-AB5D-D0B1B69A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8226-1446-46A0-9852-0F55F997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B94E-5712-4935-8DB1-9A34EB89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07FF-AE5D-499B-94F0-E01ADEEB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3B0-8EA4-4EAF-9733-2AEC1010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684-2D42-4071-A25B-C1C8DD88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D11A-2CB8-4BF1-8DAF-52AE8445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0EC2-7A84-4F58-BF27-C82842B8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0D2C-8EF9-48C5-BF8D-28A74577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3AD173E-9FA9-4975-9B64-849C4254A3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-24120" y="692640"/>
            <a:ext cx="91486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DFKai-SB"/>
                <a:ea typeface="DFKai-SB"/>
              </a:rPr>
              <a:t>漁家傲</a:t>
            </a:r>
            <a:r>
              <a:rPr b="0" lang="en-US" sz="8000" spc="-1" strike="noStrike">
                <a:solidFill>
                  <a:srgbClr val="000000"/>
                </a:solidFill>
                <a:latin typeface="DFKai-SB"/>
                <a:ea typeface="DFKai-SB"/>
              </a:rPr>
              <a:t>.</a:t>
            </a:r>
            <a:r>
              <a:rPr b="0" lang="zh-CN" sz="8000" spc="-1" strike="noStrike">
                <a:solidFill>
                  <a:srgbClr val="000000"/>
                </a:solidFill>
                <a:latin typeface="DFKai-SB"/>
                <a:ea typeface="DFKai-SB"/>
              </a:rPr>
              <a:t>新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9360" y="2781360"/>
            <a:ext cx="912456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曲：高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：黃海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2"/>
          <p:cNvSpPr/>
          <p:nvPr/>
        </p:nvSpPr>
        <p:spPr>
          <a:xfrm>
            <a:off x="-24120" y="1989000"/>
            <a:ext cx="9128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EAGER SHE AW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8" name="文本框 4"/>
          <p:cNvSpPr/>
          <p:nvPr/>
        </p:nvSpPr>
        <p:spPr>
          <a:xfrm>
            <a:off x="0" y="304920"/>
            <a:ext cx="9143640" cy="57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志在千禧婚筵聚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Eager, she awaits her groom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無花但望枝葉綠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Sweet anointed with perfume,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遍抹膏油佳偶許 擇日娶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In her dress with golden plaits, she now wait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金銀刺綉新裝預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Like a fig tree soon to bloom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6781680" y="6402240"/>
            <a:ext cx="2361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漁家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.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2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3"/>
          <p:cNvSpPr/>
          <p:nvPr/>
        </p:nvSpPr>
        <p:spPr>
          <a:xfrm>
            <a:off x="6781680" y="6402240"/>
            <a:ext cx="2361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漁家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.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2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0" y="332640"/>
            <a:ext cx="9143640" cy="58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好事耽延君遠去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Virgins' lamps at midnight burn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精明童女燈油蓄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For his coming all now yearn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夜半更深呼聲與 燈火續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"Lo, he comes!" now cries a voice. All rejoice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白衣閃亮新郎愉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At long last the groom returns!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0" y="6381000"/>
            <a:ext cx="16048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  <Words>200</Words>
  <Paragraphs>4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4:59Z</dcterms:modified>
  <cp:revision>11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3</vt:r8>
  </property>
</Properties>
</file>