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5026-360E-4A97-B2AE-CF410AEFA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04FF-31A5-46C1-B5F7-56BB8732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AB74-A653-4B3B-9F16-9751C370B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8BFF-E036-46FC-9CF4-C37E83982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5D77-FC4F-4C89-8C2B-B3030147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5C0A-49AE-40E8-B4E2-5A3365ED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5FB8-F446-45FB-9211-74082F69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A934-9224-4212-B279-F44A2A9D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9409-1A45-426B-8DDD-9DBFA5230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D2DF-F55D-4902-9BD8-4AC2F824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4B11-8D7C-4A88-852B-9C18BDB8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1F03-5A0B-4450-905A-9BC0D23B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2744287F-D127-4026-B88F-FEEB405C45D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720" y="548640"/>
            <a:ext cx="914940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1000" spc="-1" strike="noStrike">
                <a:solidFill>
                  <a:srgbClr val="000000"/>
                </a:solidFill>
                <a:latin typeface="DFKai-SB"/>
                <a:ea typeface="DFKai-SB"/>
              </a:rPr>
              <a:t>喚醒愛情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0" y="2712600"/>
            <a:ext cx="914436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</a:t>
            </a:r>
            <a:r>
              <a:rPr b="0" lang="en-US" sz="3500" spc="-1" strike="noStrike">
                <a:solidFill>
                  <a:srgbClr val="000000"/>
                </a:solidFill>
                <a:latin typeface="DFKai-SB"/>
                <a:ea typeface="DFKai-SB"/>
              </a:rPr>
              <a:t>:</a:t>
            </a: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甜心麥子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English Lyrics: Steven Nga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4"/>
          <p:cNvSpPr/>
          <p:nvPr/>
        </p:nvSpPr>
        <p:spPr>
          <a:xfrm>
            <a:off x="1560240" y="5419800"/>
            <a:ext cx="1801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5"/>
          <p:cNvSpPr/>
          <p:nvPr/>
        </p:nvSpPr>
        <p:spPr>
          <a:xfrm>
            <a:off x="0" y="6381000"/>
            <a:ext cx="914364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2"/>
          <p:cNvSpPr/>
          <p:nvPr/>
        </p:nvSpPr>
        <p:spPr>
          <a:xfrm>
            <a:off x="35640" y="2205360"/>
            <a:ext cx="912456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1" lang="en-US" sz="3500" spc="-1" strike="noStrike">
                <a:solidFill>
                  <a:srgbClr val="000000"/>
                </a:solidFill>
                <a:latin typeface="DFKai-SB"/>
                <a:ea typeface="DFKai-SB"/>
              </a:rPr>
              <a:t>MY HEART CALLS TO YOU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0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1" name="文本框 3"/>
          <p:cNvSpPr/>
          <p:nvPr/>
        </p:nvSpPr>
        <p:spPr>
          <a:xfrm>
            <a:off x="7010280" y="6382440"/>
            <a:ext cx="21333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4"/>
          <p:cNvSpPr/>
          <p:nvPr/>
        </p:nvSpPr>
        <p:spPr>
          <a:xfrm>
            <a:off x="-720" y="261000"/>
            <a:ext cx="9144360" cy="42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呼喚你千萬遍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  <a:ea typeface="DFKai-SB"/>
              </a:rPr>
              <a:t>Time and time again has my heart called to you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不願再流離不再失散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That you cease to wander all alon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歸回關鎖園中 歸回封閉的井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Be my garden once more, be my fount, my spring enclose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在你安息之所我呼喚你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To a place of rest I call you back h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6"/>
          <p:cNvSpPr/>
          <p:nvPr/>
        </p:nvSpPr>
        <p:spPr>
          <a:xfrm>
            <a:off x="0" y="638100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5"/>
          <p:cNvSpPr/>
          <p:nvPr/>
        </p:nvSpPr>
        <p:spPr>
          <a:xfrm>
            <a:off x="0" y="6381000"/>
            <a:ext cx="914364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7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8" name="文本框 3"/>
          <p:cNvSpPr/>
          <p:nvPr/>
        </p:nvSpPr>
        <p:spPr>
          <a:xfrm>
            <a:off x="7010280" y="6382440"/>
            <a:ext cx="21333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4"/>
          <p:cNvSpPr/>
          <p:nvPr/>
        </p:nvSpPr>
        <p:spPr>
          <a:xfrm>
            <a:off x="0" y="261000"/>
            <a:ext cx="9143640" cy="55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呼喚你千萬遍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  <a:ea typeface="DFKai-SB"/>
              </a:rPr>
              <a:t>Time and time again has my heart called to you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不願再流離不再失散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That I cease to wander all alon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歸回關鎖園中 歸回封閉的井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Be my garden once more, be my fount, my spring enclose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在你安息之所我呼喚你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To a place of rest I call you back ho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6"/>
          <p:cNvSpPr/>
          <p:nvPr/>
        </p:nvSpPr>
        <p:spPr>
          <a:xfrm>
            <a:off x="0" y="638100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婦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5"/>
          <p:cNvSpPr/>
          <p:nvPr/>
        </p:nvSpPr>
        <p:spPr>
          <a:xfrm>
            <a:off x="0" y="6381000"/>
            <a:ext cx="914364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4" name="文本框 4"/>
          <p:cNvSpPr/>
          <p:nvPr/>
        </p:nvSpPr>
        <p:spPr>
          <a:xfrm>
            <a:off x="0" y="152280"/>
            <a:ext cx="9143640" cy="60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在愛情烈焰中</a:t>
            </a:r>
            <a:r>
              <a:rPr b="0" lang="en-US" sz="4500" spc="-1" strike="noStrike">
                <a:solidFill>
                  <a:srgbClr val="000000"/>
                </a:solidFill>
                <a:latin typeface="DFKai-SB"/>
                <a:ea typeface="DFKai-SB"/>
              </a:rPr>
              <a:t> 我看到了你面容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In the flames of your love, I've beheld your handsome fac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那榮美 榮美的身影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And your skin like ivory and g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在愛情烈焰中 我觸摸了你的心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In the flames of your lov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You have healed my changing hear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那奇妙 天國的心跳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Now it beats as one with your ow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6"/>
          <p:cNvSpPr/>
          <p:nvPr/>
        </p:nvSpPr>
        <p:spPr>
          <a:xfrm>
            <a:off x="0" y="638100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婦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3"/>
          <p:cNvSpPr/>
          <p:nvPr/>
        </p:nvSpPr>
        <p:spPr>
          <a:xfrm>
            <a:off x="7010280" y="6382440"/>
            <a:ext cx="21333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5"/>
          <p:cNvSpPr/>
          <p:nvPr/>
        </p:nvSpPr>
        <p:spPr>
          <a:xfrm>
            <a:off x="0" y="6381000"/>
            <a:ext cx="914364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70" name="文本框 3"/>
          <p:cNvSpPr/>
          <p:nvPr/>
        </p:nvSpPr>
        <p:spPr>
          <a:xfrm>
            <a:off x="7007400" y="6381000"/>
            <a:ext cx="213624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4"/>
          <p:cNvSpPr/>
          <p:nvPr/>
        </p:nvSpPr>
        <p:spPr>
          <a:xfrm>
            <a:off x="0" y="152280"/>
            <a:ext cx="9143640" cy="56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在愛情烈焰中 你燃燒了我的心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In the flames of your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Has my heart been set afir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那濃烈 堅韌的愛情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And it's forged a love to end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在愛情烈焰中 你降服了我的心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In the flames of your lov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I can rest my wandering hear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我榮耀 美麗的新郎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O</a:t>
            </a:r>
            <a:r>
              <a:rPr b="0" lang="en-US" sz="5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my glorious beautiful groom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6"/>
          <p:cNvSpPr/>
          <p:nvPr/>
        </p:nvSpPr>
        <p:spPr>
          <a:xfrm>
            <a:off x="0" y="638100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婦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5"/>
          <p:cNvSpPr/>
          <p:nvPr/>
        </p:nvSpPr>
        <p:spPr>
          <a:xfrm>
            <a:off x="0" y="6381000"/>
            <a:ext cx="914364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4"/>
          <p:cNvSpPr/>
          <p:nvPr/>
        </p:nvSpPr>
        <p:spPr>
          <a:xfrm>
            <a:off x="-5040" y="405000"/>
            <a:ext cx="9148680" cy="47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呼喚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Day and night my heart calls to you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思念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Day and night my heart longs for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思念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Day and night my heart longs for you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呼喚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Day and night my heart calls to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3"/>
          <p:cNvSpPr/>
          <p:nvPr/>
        </p:nvSpPr>
        <p:spPr>
          <a:xfrm>
            <a:off x="7010280" y="6382440"/>
            <a:ext cx="21333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5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5"/>
          <p:cNvSpPr/>
          <p:nvPr/>
        </p:nvSpPr>
        <p:spPr>
          <a:xfrm>
            <a:off x="0" y="6381000"/>
            <a:ext cx="914364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6"/>
          <p:cNvSpPr/>
          <p:nvPr/>
        </p:nvSpPr>
        <p:spPr>
          <a:xfrm>
            <a:off x="0" y="638100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合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4"/>
          <p:cNvSpPr/>
          <p:nvPr/>
        </p:nvSpPr>
        <p:spPr>
          <a:xfrm>
            <a:off x="-7560" y="981000"/>
            <a:ext cx="9150480" cy="47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4900" spc="-1" strike="noStrike">
                <a:solidFill>
                  <a:srgbClr val="000000"/>
                </a:solidFill>
                <a:latin typeface="DFKai-SB"/>
                <a:ea typeface="DFKai-SB"/>
              </a:rPr>
              <a:t>新婦 新婦 舒拉密女你回來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Turn back, my bride, O Shulamite, my brid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(4X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4900" spc="-1" strike="noStrike">
                <a:solidFill>
                  <a:srgbClr val="000000"/>
                </a:solidFill>
                <a:latin typeface="DFKai-SB"/>
                <a:ea typeface="DFKai-SB"/>
              </a:rPr>
              <a:t>你回來 你回來 你回來</a:t>
            </a: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(2X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Turn back! </a:t>
            </a: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(6X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3"/>
          <p:cNvSpPr/>
          <p:nvPr/>
        </p:nvSpPr>
        <p:spPr>
          <a:xfrm>
            <a:off x="7010280" y="6382440"/>
            <a:ext cx="21333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6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5"/>
          <p:cNvSpPr/>
          <p:nvPr/>
        </p:nvSpPr>
        <p:spPr>
          <a:xfrm>
            <a:off x="0" y="6381000"/>
            <a:ext cx="914364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6"/>
          <p:cNvSpPr/>
          <p:nvPr/>
        </p:nvSpPr>
        <p:spPr>
          <a:xfrm>
            <a:off x="0" y="638100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  <Words>582</Words>
  <Paragraphs>11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3:42Z</dcterms:modified>
  <cp:revision>13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7</vt:r8>
  </property>
</Properties>
</file>