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2B9-820B-4D1D-946D-7A1BA180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2CE-D9B8-4670-BC31-23155B9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7DE-3060-458B-AFBB-304CEE70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A86-3A17-493D-AC7B-4C535064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1E4-1F21-4E14-88CE-CC82C548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4B8-7B7E-4E93-A1C3-4E11F2DF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8A8-624C-49D4-A094-767E7F3F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7CA-36A6-48A4-8DD9-47BB0DBC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489-DA52-4948-98DA-85628425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962-52F2-4C16-A6A7-6609C15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AAD-9C8B-48D5-8419-0F9E153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BD4-5358-41C8-93D0-49F0FAF1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8F64752-F2A9-43F2-ABBB-DF883CC845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51120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35640" y="281124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36360" y="1917000"/>
            <a:ext cx="91429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YOU'RE THE ONE FOR 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762120"/>
            <a:ext cx="914364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屬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762120"/>
            <a:ext cx="914364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愛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332640"/>
            <a:ext cx="9143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've engraved me on Your palm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ge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sake 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 unchanging through every ag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'll love You eternal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  <Words>271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43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