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C9E-A172-4C22-BB04-59CA4AA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29F-8663-4E15-BEA1-D08EEC6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F94-F39D-4C3D-B484-561A6FDF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A1B-08B7-4C2A-AC83-7A6CE8F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025-3A87-4701-9A16-D87E707B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32D-B590-4C15-85CD-CE03837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BBE-3B3E-4702-B57F-7640BE4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744-E807-4A6F-BB64-8A4BCB6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1E9-3C93-4D51-809A-BF7F2F1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AF2-30CF-4DBD-BD35-FC80A2A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ED3-BEEA-4C1A-9077-6D929CA8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21F-333C-4884-9E34-E72C8B5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AADC38C-94D1-41EF-B81B-9E32462532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80" y="281952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10080" y="908640"/>
            <a:ext cx="9153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3141360"/>
            <a:ext cx="9143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藍寶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0" y="2277000"/>
            <a:ext cx="9143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GLADLY I WILL SING YOUR PRA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264360" y="641160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創造宇宙萬物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established all creation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按祂形象造男造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Formed us as its culmination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賜福他們權柄治理這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Then You granted us the right to rule i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5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0" y="765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生命氣息從祢而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But we live through Your sustaining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疆界年日為祢所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Bounds and times are Your ordaining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萬物受造彰顯榮耀祢的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GungsuhChe"/>
              </a:rPr>
              <a:t>You have made all things to glorify Your n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0" y="458640"/>
            <a:ext cx="91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順服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am here, Lord, to ob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榮耀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am here to glorify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敬拜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, I live to give You prais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遵行祢旨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unto Your will submit my lif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0" y="405000"/>
            <a:ext cx="914364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阿拉法 俄梅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are Alpha, Omega,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稱頌祢名不止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 will ever sing Your praise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統管全地永恆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 Creator and Ruler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adly I will sing Your prai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33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56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