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106D-F6EC-44A3-B0E4-DD993B6C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8A87-0064-4FAE-9FAF-91E4934C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EEB-5529-47E9-8A0A-64BC239C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ADC-DC66-4A14-B2F5-6EC89829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1C5-BF0C-477E-B39B-2B10614D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B3E-052D-487E-A239-49373BD2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7AC-6ECC-4532-B804-46D2F43B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B96B-2CBA-4370-8E30-C6F137EC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59A-FDBD-410F-BA69-489EE04C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F8DB-2613-4FB4-A30E-CBBAC940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4FA-FD28-4736-A59D-EC206EA7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5982-B00B-49D0-9EFB-CF41FFD3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D76C80E-20BB-4C42-8197-9840AB1C65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720" y="47700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即或不然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493000"/>
            <a:ext cx="9143640" cy="34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0" y="2133000"/>
            <a:ext cx="91429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I'LL STILL BELIE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838080"/>
            <a:ext cx="914364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the Lord my Go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自有永有 至聖至尊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The one Eternal, pure and holy --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誰能尋見 祂的蹤跡 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who can claim to know His ways? Oh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7020720" y="638172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0" y="838080"/>
            <a:ext cx="9143640" cy="49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the Lord my Go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作為完全 良善正直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is work is perfect, good and uprigh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在祂裏面 毫無不義 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all His ways are without blame! Oh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533520"/>
            <a:ext cx="9143640" cy="54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烈火窯中 我仍要相信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Even faced with death, I'll still believe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我的神必拯救我脫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For I know He can deliver me,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but should He not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即或不然 我仍要尊榮祂聖名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Unto His name all glory be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尊榮祂聖名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GungsuhChe"/>
              </a:rPr>
              <a:t>I will still believe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66" name="文本框 4"/>
          <p:cNvSpPr/>
          <p:nvPr/>
        </p:nvSpPr>
        <p:spPr>
          <a:xfrm>
            <a:off x="0" y="838080"/>
            <a:ext cx="9143640" cy="53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the Lord my Go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說有就有 命立就立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The one Creator and Sustainer --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誰能抵擋 祂的旨意 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can prevail against His way? Oh</a:t>
            </a: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,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73" name="文本框 4"/>
          <p:cNvSpPr/>
          <p:nvPr/>
        </p:nvSpPr>
        <p:spPr>
          <a:xfrm>
            <a:off x="0" y="838080"/>
            <a:ext cx="9143640" cy="42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the Lord my Go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作為完全 良善正直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is work is perfect, good and uprigh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在祂裏面 毫無不義 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all His ways are without blame! Oh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"/>
          <p:cNvSpPr/>
          <p:nvPr/>
        </p:nvSpPr>
        <p:spPr>
          <a:xfrm>
            <a:off x="0" y="380880"/>
            <a:ext cx="914364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我的神 祂不休息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God alone is strong to save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愛不離不棄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is steadfast love is sur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我的神 永不改變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e's the same in every age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信實直到永遠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is faithfulness endures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5"/>
          <p:cNvSpPr/>
          <p:nvPr/>
        </p:nvSpPr>
        <p:spPr>
          <a:xfrm>
            <a:off x="0" y="6382440"/>
            <a:ext cx="20804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  <Words>469</Words>
  <Paragraphs>10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2:58Z</dcterms:modified>
  <cp:revision>15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7</vt:r8>
  </property>
</Properties>
</file>