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660-4BF6-4D4F-8C8C-F3975B1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60E-5FD9-4BA4-B581-D15EECC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088-38A2-4BC1-A375-806EEE19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042-ECFD-497B-AE93-6889EFEB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BB0-C831-4830-B5F8-AAA176ED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78D-D2CE-4CE6-85D1-9E2FCBF0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C4C-652A-4E50-816B-4A38862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222-8352-4F7C-8D36-B82AD62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809-9D9D-4955-8F8A-369B45E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A67-DA1A-4D9B-8BB7-121E813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BCF-294C-4D48-B28B-FDC7AD9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E8F-8914-4380-B12D-41318B6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402F80C-C562-4B75-999C-0B6B6A5BC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9360" y="548640"/>
            <a:ext cx="91486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SOUND THE C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133000"/>
            <a:ext cx="91429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360" y="6419160"/>
            <a:ext cx="9134280" cy="352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685800"/>
            <a:ext cx="9143640" cy="52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Noa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icked men were making mer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 flood c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brought judgment to them all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685800"/>
            <a:ext cx="91436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 the days of Jonah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Man could not tell right from wro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ill they heeded Your holy servant's call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0" y="60948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3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hear You with no pr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know You with no teach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will call on Your na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3440" y="6413040"/>
            <a:ext cx="31302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57200"/>
            <a:ext cx="9143640" cy="57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Calling back the dead unto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anoint me! Make use of m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end me in to sound the cr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5/5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"/>
          <p:cNvSpPr/>
          <p:nvPr/>
        </p:nvSpPr>
        <p:spPr>
          <a:xfrm>
            <a:off x="0" y="609480"/>
            <a:ext cx="914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on will come a time,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time is com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en the dead shall hear the voice of th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Son of G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have new lif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404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1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6</vt:r8>
  </property>
</Properties>
</file>