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4EE2-678E-47B3-AC37-9B861697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D5D-1429-4218-A703-7237853B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CF51-749A-4CEA-BA17-FD51801B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41DA-3CDB-4A90-91B0-4524C399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3F5-71BD-424F-B4AC-F462AF9F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A6A9-0607-4748-8A2E-3A001057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7AF-0E22-4970-85A6-DD148D5D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A52F-D85D-4E20-8ACB-AFE43AF4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B85B-4EBF-4F28-8C67-27008A9B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E37C-7804-4518-B1F4-1C9B8C09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A85-157B-4FB0-8732-F4562686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0260-23AC-42DE-BE5D-570ECED6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CC12F89-65E5-4AB3-A125-457F9A7756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0" y="548640"/>
            <a:ext cx="91429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即或不然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0" y="2133000"/>
            <a:ext cx="9143640" cy="31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21600" y="548640"/>
            <a:ext cx="914220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自有永有 至聖至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誰能尋見 祂的蹤跡 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作為完全 良善正直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祂裏面 毫無不義 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4"/>
          <p:cNvSpPr/>
          <p:nvPr/>
        </p:nvSpPr>
        <p:spPr>
          <a:xfrm>
            <a:off x="9360" y="837000"/>
            <a:ext cx="913428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烈火窯中 我仍要相信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神必拯救我脫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即或不然 我仍要尊榮祂聖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尊榮祂聖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0" y="548640"/>
            <a:ext cx="916380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說有就有 命立就立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誰能抵擋 祂的旨意 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有誰能像我的神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作為完全 良善正直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祂裏面 毫無不義 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0" y="908640"/>
            <a:ext cx="914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神 祂不休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愛不離不棄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神 永不改變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信實直到永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"/>
          <p:cNvSpPr/>
          <p:nvPr/>
        </p:nvSpPr>
        <p:spPr>
          <a:xfrm>
            <a:off x="0" y="6382440"/>
            <a:ext cx="20804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7020720" y="6382440"/>
            <a:ext cx="2122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即或不然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  <Words>254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7:20Z</dcterms:modified>
  <cp:revision>13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