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F9A5-8F53-40BB-BF62-92BA16C1C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9D5D-4A14-409D-8270-7E1C2AA8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BEF1-96CB-4396-A3C5-AE699A270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3D08-C7C6-4AFA-ACEE-577D0D999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A43E-323E-4EAA-BC38-126D362E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4184-7EC0-4F93-A02E-D4940318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4FE0-D68C-4A34-A8A1-39E9736E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FD21-C98F-4527-839B-BE8BC289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5E35-FBD8-4477-BD60-CC1263F4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481E-3194-4227-BEB2-590AFBCB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399B-C06B-4C15-AF87-1CF2FE04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F78E-DF6A-4886-88A7-51B668A4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EFF30EA4-1EB9-42CE-A0AD-A43DDD2AC4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0" y="548640"/>
            <a:ext cx="915840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7000" spc="-1" strike="noStrike">
                <a:solidFill>
                  <a:srgbClr val="000000"/>
                </a:solidFill>
                <a:latin typeface="DFKai-SB"/>
                <a:ea typeface="DFKai-SB"/>
              </a:rPr>
              <a:t>唱響這時代的呼聲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"/>
          <p:cNvSpPr/>
          <p:nvPr/>
        </p:nvSpPr>
        <p:spPr>
          <a:xfrm>
            <a:off x="0" y="2493000"/>
            <a:ext cx="91429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 # 719164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6419160"/>
            <a:ext cx="9143640" cy="43848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7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8" name="文本框 3"/>
          <p:cNvSpPr/>
          <p:nvPr/>
        </p:nvSpPr>
        <p:spPr>
          <a:xfrm>
            <a:off x="6012360" y="6413040"/>
            <a:ext cx="31316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唱響這時代的呼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1/4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0" y="188640"/>
            <a:ext cx="9143640" cy="57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諾亞的日子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人們照常吃喝嫁娶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直到洪水把他們都冲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約拿的日子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人們分不清對和錯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直到聽見神僕人的呼籲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副标题 7"/>
          <p:cNvSpPr/>
          <p:nvPr/>
        </p:nvSpPr>
        <p:spPr>
          <a:xfrm>
            <a:off x="0" y="6419160"/>
            <a:ext cx="9143640" cy="438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0" y="103824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沒有人傳</a:t>
            </a: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怎能聽見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沒有聽見 怎能相信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怎能求告主名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(2X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前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副标题 7"/>
          <p:cNvSpPr/>
          <p:nvPr/>
        </p:nvSpPr>
        <p:spPr>
          <a:xfrm>
            <a:off x="0" y="6419160"/>
            <a:ext cx="9143640" cy="438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3"/>
          <p:cNvSpPr/>
          <p:nvPr/>
        </p:nvSpPr>
        <p:spPr>
          <a:xfrm>
            <a:off x="6012360" y="6413040"/>
            <a:ext cx="31316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唱響這時代的呼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2/4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0" y="981000"/>
            <a:ext cx="9143640" cy="38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主啊膏抹我 使用我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唱響這時代的呼聲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主啊膏抹我 使用我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唱響這時代的呼聲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5"/>
          <p:cNvSpPr/>
          <p:nvPr/>
        </p:nvSpPr>
        <p:spPr>
          <a:xfrm>
            <a:off x="0" y="6334920"/>
            <a:ext cx="17319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副标题 7"/>
          <p:cNvSpPr/>
          <p:nvPr/>
        </p:nvSpPr>
        <p:spPr>
          <a:xfrm>
            <a:off x="0" y="6419160"/>
            <a:ext cx="9143640" cy="438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"/>
          <p:cNvSpPr/>
          <p:nvPr/>
        </p:nvSpPr>
        <p:spPr>
          <a:xfrm>
            <a:off x="6012360" y="6413040"/>
            <a:ext cx="31316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唱響這時代的呼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3/4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6" name="文本框 4"/>
          <p:cNvSpPr/>
          <p:nvPr/>
        </p:nvSpPr>
        <p:spPr>
          <a:xfrm>
            <a:off x="0" y="1038240"/>
            <a:ext cx="9143640" cy="38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時候將到 現在就是了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死人要聽見神兒子的聲音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就要活了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5"/>
          <p:cNvSpPr/>
          <p:nvPr/>
        </p:nvSpPr>
        <p:spPr>
          <a:xfrm>
            <a:off x="0" y="6334920"/>
            <a:ext cx="17319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副标题 7"/>
          <p:cNvSpPr/>
          <p:nvPr/>
        </p:nvSpPr>
        <p:spPr>
          <a:xfrm>
            <a:off x="0" y="6419160"/>
            <a:ext cx="9143640" cy="438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3"/>
          <p:cNvSpPr/>
          <p:nvPr/>
        </p:nvSpPr>
        <p:spPr>
          <a:xfrm>
            <a:off x="6012360" y="6413040"/>
            <a:ext cx="31316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唱響這時代的呼聲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4/4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  <Words>239</Words>
  <Paragraphs>5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8:00Z</dcterms:modified>
  <cp:revision>8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5</vt:r8>
  </property>
</Properties>
</file>