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7E5-4168-4ED1-8A30-F8CA2C4C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F4E-AD5A-49B6-9288-4CF427C4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1FF-00D1-4A83-B32E-510EAD7A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660-0F22-4F6C-89A3-BDF46B50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B14-489F-46D0-AF6D-6C886849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EE6-CDC5-4BAC-9961-FC557D10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2E2-991C-44F1-99BA-18BF4A64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67C-572B-4A2A-A211-03F1C29B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3DE-E8F5-4A3E-9431-5CCBCA82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E92-3FF7-4C2D-9CF3-39077606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445-98B2-4AFD-A5C0-003A18FC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24C-4F6F-4349-B276-F9008C14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AB1CE50-EDB6-4E84-9360-150C8B0CE4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720" y="90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9000" spc="-1" strike="noStrike">
                <a:solidFill>
                  <a:srgbClr val="000000"/>
                </a:solidFill>
                <a:latin typeface="DFKai-SB"/>
                <a:ea typeface="DFKai-SB"/>
              </a:rPr>
              <a:t>新郎的呼喚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35640" y="908640"/>
            <a:ext cx="914220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我一同坐在天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我行走在水面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我形影不離 心心相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35640" y="908640"/>
            <a:ext cx="914220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一同坐在天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行走在水面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形影不離 心心相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合而為一 成為一靈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9360" y="837000"/>
            <a:ext cx="913428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 啊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~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與我 我與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一同坐在天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行走在水面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6665040" y="6382440"/>
            <a:ext cx="24786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的呼喚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35640" y="548640"/>
            <a:ext cx="91850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願意 主 我願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祢同去 永不分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在哪裏 願我也在那裏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不分離 永不分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</a:t>
            </a:r>
            <a:r>
              <a:rPr b="1" lang="zh-TW" sz="2500" spc="-1" strike="noStrike">
                <a:solidFill>
                  <a:schemeClr val="accent4"/>
                </a:solidFill>
                <a:latin typeface="楷体"/>
                <a:ea typeface="楷体"/>
              </a:rPr>
              <a:t>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  <Words>230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9:58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