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C12-F402-4BBE-85A3-F603FCE6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057-77CE-4197-A117-9763F60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E96-B5AA-4BB7-AAE7-3A15D746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280-6E13-499B-96BA-554BD9E2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DC4-8F14-4957-B168-FE76C24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428-23FB-4015-899A-88D8C762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C6A-D6F5-4711-A36D-9C814CC8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B2A-71C3-4A43-ABC4-B452BF86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EA3-C116-4FAF-93A8-2F4DC82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3A6-29B2-4FC4-8E18-B67D3A6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F8E-1C65-4613-891B-04F06A0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DA1-0EFB-41BE-9104-F8690D32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48EC42-5D5F-48BA-8E12-63687636A8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0" y="908640"/>
            <a:ext cx="91436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0" y="2611080"/>
            <a:ext cx="85881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藍寶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-1440" y="188640"/>
            <a:ext cx="91454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創造宇宙萬物的神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按祂形象造男造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賜福他們權柄治理這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生命氣息從祢而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疆界年日為祢所定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萬物受造彰顯榮耀祢的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副标题 3074"/>
          <p:cNvSpPr/>
          <p:nvPr/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9144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順服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來為要榮耀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活著為要遵行祢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264360" y="641304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前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853000"/>
            <a:ext cx="914364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" y="6382440"/>
            <a:ext cx="914040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264360" y="6411600"/>
            <a:ext cx="2879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全心全意敬拜祢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0" y="908640"/>
            <a:ext cx="914364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阿拉法 俄梅戛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頌祢名不止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統管全地永恆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全心全意敬拜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197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1:14Z</dcterms:modified>
  <cp:revision>11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