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820-1BC6-4277-BE9A-6D08A48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2E2-6DE3-43EF-8D3E-C869C8F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BD7-854E-4C88-9C73-22C4E7D5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CDA-BA9A-424C-86B9-238987D1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F53-B552-4A43-93E1-9601E50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0DD-874C-4FE1-B426-5A8782C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1B9-9094-4D39-972E-84FD136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F0F-197D-4993-9F19-E79FCF92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C93-3B27-4875-BC47-EFC31DE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F46-2696-4773-91C7-96A13B0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99-4A7F-46F3-B3DC-5D0F7639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016-7DEC-42B6-98F6-06978C8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389A5F-B659-48C0-8226-2C0CD0D0B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開我眼睛 看見祢就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將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DFKai-SB"/>
                <a:ea typeface="宋体"/>
              </a:rPr>
              <a:t>我的</a:t>
            </a:r>
            <a:r>
              <a:rPr b="1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)</a:t>
            </a: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愛完全 讓我心一無畏懼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837000"/>
            <a:ext cx="9143640" cy="53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轉向祢 祢已在這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每當我親近祢 祢就與我親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尚未求告 祢已應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喜樂滿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6981120" y="6382440"/>
            <a:ext cx="21625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有祢同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83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勝過千萬人同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祢同行 我能勇敢走窄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愛既完全 將一切懼怕除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靈穩妥 因祢與我同行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292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264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36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