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CF5-D9AD-4687-AAF0-90346255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9D6-0DED-4A51-A77F-9F079BE9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8B3-3627-481E-8724-93AE47AF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FF8-4BE6-4A9F-A476-08D70A55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5AE-1B00-4CF8-BA52-31DF8797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3E3-9045-481D-BBFF-93ACC2CA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1EC-2222-4B6A-BAF0-6682FC1B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F08-0561-41C4-9AFE-C6D82489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32A-0ABD-4196-B4D2-B535B83D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BC0-B050-4E98-81C8-B0EF0506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0F81-BFEF-4713-8DF7-2D8AF224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C46-B713-4308-BA5D-A67BD893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9446D9F-C541-4977-9DFC-EE229C7E45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3240" y="692640"/>
            <a:ext cx="914364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亙古的愛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201400"/>
            <a:ext cx="914688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0" y="5419800"/>
            <a:ext cx="9143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0" y="5334120"/>
            <a:ext cx="914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宋体"/>
              </a:rPr>
              <a:t>中文歌詞中的「他」汎指人類，包括了亞當和夏娃，男人和女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-45000" y="972360"/>
            <a:ext cx="921168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許久以前祂有個夢想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為自己造了一個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將他安置浩瀚的宇宙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美麗的地球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20" y="6382440"/>
            <a:ext cx="913788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"/>
          <p:cNvSpPr/>
          <p:nvPr/>
        </p:nvSpPr>
        <p:spPr>
          <a:xfrm>
            <a:off x="720" y="940320"/>
            <a:ext cx="9153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起涼風晨昏或日落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倆同行在伊甸園中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直到有天他聽信讒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人永隔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0" y="189360"/>
            <a:ext cx="9143640" cy="55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噢 但祂心深愛著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怎能就此遺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 用水將他洗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0" y="9810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如此的愛將石心融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痛悔的心再次屬於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靈魂甦醒他甘心樂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跟隨祂到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-45000" y="981000"/>
            <a:ext cx="9188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再過不久 號角要響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榮耀新郎 要駕雲降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要接他回到父家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不再分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720" y="189360"/>
            <a:ext cx="914292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噢 因祂心深愛著他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能就此遺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日夜思念的新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祂說我要下到他那裡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用血換他生命 用水將他洗淨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他必永遠歸我為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橋段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4"/>
          <p:cNvSpPr/>
          <p:nvPr/>
        </p:nvSpPr>
        <p:spPr>
          <a:xfrm>
            <a:off x="-17640" y="981000"/>
            <a:ext cx="918792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那美麗的新天新地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再無死亡 也沒有哭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羔羊和新婦從此快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遠在一起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7018200" y="6382440"/>
            <a:ext cx="21258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亙古的愛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7/7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  <Words>447</Words>
  <Paragraphs>10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0:51Z</dcterms:modified>
  <cp:revision>12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8</vt:r8>
  </property>
</Properties>
</file>