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8896-294F-4871-8BAA-4169294D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646-B439-4750-AF4B-DF8C523B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3CA-91FB-4B6F-BCE7-D74CDB24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6E66-CEF9-4D7E-9C5F-7B8EA514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B978-CFF4-413F-8A3C-6FFA3E0B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505-5E5A-4B64-91FB-B86E001B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6C21-28A3-46AD-9669-515D588C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41E5-EF03-420F-AA43-10D0CFE6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0E9-655F-442E-A04E-0E64B4E8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FF85-E588-4EA6-A1A5-FB20395D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582-30DA-4167-9729-909DB40F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9F43-3FA3-4CB4-BA5D-27B3F245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C9620F4-9F3F-417D-925D-EBDEBD4538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-35640" y="1161360"/>
            <a:ext cx="914436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DFKai-SB"/>
                <a:ea typeface="DFKai-SB"/>
              </a:rPr>
              <a:t>基督在我裏面活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720" y="2853000"/>
            <a:ext cx="914364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劉安淑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1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873000"/>
            <a:ext cx="914364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的氣息吹入我的身體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基督的生命在我裏面成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因著信 我已得潔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因著信 我已得稱義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945360"/>
            <a:ext cx="914436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基督裏我得釋放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使我脫離罪惡捆綁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如今活著不再是我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乃是基督在我裏面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2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-720" y="945360"/>
            <a:ext cx="916776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活出祢榮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如明光照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活出祢慈愛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這個時代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"/>
          <p:cNvSpPr/>
          <p:nvPr/>
        </p:nvSpPr>
        <p:spPr>
          <a:xfrm>
            <a:off x="0" y="6413040"/>
            <a:ext cx="1717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398280" y="6414840"/>
            <a:ext cx="2745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200" spc="-1" strike="noStrike">
                <a:solidFill>
                  <a:schemeClr val="accent4"/>
                </a:solidFill>
                <a:latin typeface="楷体"/>
                <a:ea typeface="楷体"/>
              </a:rPr>
              <a:t>基督在我裏面活</a:t>
            </a:r>
            <a:r>
              <a:rPr b="1" lang="en-US" sz="2200" spc="-1" strike="noStrike">
                <a:solidFill>
                  <a:schemeClr val="accent4"/>
                </a:solidFill>
                <a:latin typeface="楷体"/>
                <a:ea typeface="楷体"/>
              </a:rPr>
              <a:t>3/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  <Words>184</Words>
  <Paragraphs>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8:37Z</dcterms:modified>
  <cp:revision>10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4</vt:r8>
  </property>
</Properties>
</file>