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A03-849E-4EC9-A36D-53C835FB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2CF-F9D7-40D8-95D5-EE88282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5EA-51CE-414A-A66D-2AFC1986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677-8325-4807-8F3F-CE1D8C82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2DF-63B4-4815-AC73-642EE98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ABA-02A2-47AC-B28C-F7C11584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319-045A-470E-9285-4B1D8BB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63B-E74E-49B1-99E8-F75CD30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925-7E77-47A3-8700-1C7EBE64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22F-6AEE-45AD-B86A-346DB942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B68-ED69-487F-827C-08D8DC3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BCE-D55E-4007-9C3D-7C5C6637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2BED69C-A89E-4AD3-9229-EB52DB0E33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" y="2493000"/>
            <a:ext cx="9150120" cy="2662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27360" y="908640"/>
            <a:ext cx="91047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5640" y="2467080"/>
            <a:ext cx="914292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14400"/>
            <a:ext cx="914364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14400"/>
            <a:ext cx="91436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81000"/>
            <a:ext cx="9143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"/>
          <p:cNvSpPr/>
          <p:nvPr/>
        </p:nvSpPr>
        <p:spPr>
          <a:xfrm>
            <a:off x="0" y="9144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舒拉密女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  <Words>35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22Z</dcterms:modified>
  <cp:revision>14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