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8BFB-190A-486B-AD66-33E360B56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0B26-EC23-4CDA-B78F-CAF9DA36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7CDC-7837-48F7-9435-C45DDAE7E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567B-FAAC-46CA-9B44-7462C4687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AD82-5A8F-4D7C-8C4E-AE1E48BAC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4295-97E6-4DD6-B135-CBCE7C463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8D4A-F6D0-4DAE-A571-353AF7102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F98E-15E5-4D5E-92BA-1E9A4A558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01FE-52F9-4DBE-AB8D-AB70CF673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6D84-F402-4F2E-966F-8910C9CA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5934-E589-4C26-AFE4-D6F90B00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95C3-F244-4BA7-831E-6B9B94ED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14E4E88E-0714-4532-8FFA-685BD7EBE15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1"/>
          <p:cNvSpPr/>
          <p:nvPr/>
        </p:nvSpPr>
        <p:spPr>
          <a:xfrm>
            <a:off x="30960" y="762120"/>
            <a:ext cx="91126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DFKai-SB"/>
                <a:ea typeface="DFKai-SB"/>
              </a:rPr>
              <a:t>漁家傲</a:t>
            </a:r>
            <a:r>
              <a:rPr b="0" lang="en-US" sz="8000" spc="-1" strike="noStrike">
                <a:solidFill>
                  <a:srgbClr val="000000"/>
                </a:solidFill>
                <a:latin typeface="DFKai-SB"/>
                <a:ea typeface="DFKai-SB"/>
              </a:rPr>
              <a:t>.</a:t>
            </a:r>
            <a:r>
              <a:rPr b="0" lang="zh-CN" sz="8000" spc="-1" strike="noStrike">
                <a:solidFill>
                  <a:srgbClr val="000000"/>
                </a:solidFill>
                <a:latin typeface="DFKai-SB"/>
                <a:ea typeface="DFKai-SB"/>
              </a:rPr>
              <a:t>新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3"/>
          <p:cNvSpPr/>
          <p:nvPr/>
        </p:nvSpPr>
        <p:spPr>
          <a:xfrm>
            <a:off x="0" y="2493000"/>
            <a:ext cx="91342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曲：高歌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DFKai-SB"/>
                <a:ea typeface="DFKai-SB"/>
              </a:rPr>
              <a:t>  </a:t>
            </a: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：黃海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副标题 3074"/>
          <p:cNvSpPr/>
          <p:nvPr/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1"/>
          <p:cNvSpPr/>
          <p:nvPr/>
        </p:nvSpPr>
        <p:spPr>
          <a:xfrm>
            <a:off x="828000" y="45000"/>
            <a:ext cx="72622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6000" spc="-1" strike="noStrike">
              <a:ln>
                <a:solidFill>
                  <a:srgbClr val="000000"/>
                </a:solidFill>
              </a:ln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47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48" name="文本框 3"/>
          <p:cNvSpPr/>
          <p:nvPr/>
        </p:nvSpPr>
        <p:spPr>
          <a:xfrm>
            <a:off x="6858000" y="6413040"/>
            <a:ext cx="22856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漁家傲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.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新婦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1/2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4"/>
          <p:cNvSpPr/>
          <p:nvPr/>
        </p:nvSpPr>
        <p:spPr>
          <a:xfrm>
            <a:off x="-8280" y="908640"/>
            <a:ext cx="9145440" cy="48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志在千禧婚筵聚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無花但望枝葉綠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遍抹膏油佳偶許 擇日娶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金銀刺綉新裝預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1"/>
          <p:cNvSpPr/>
          <p:nvPr/>
        </p:nvSpPr>
        <p:spPr>
          <a:xfrm>
            <a:off x="828000" y="45000"/>
            <a:ext cx="72622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6000" spc="-1" strike="noStrike">
              <a:ln>
                <a:solidFill>
                  <a:srgbClr val="000000"/>
                </a:solidFill>
              </a:ln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54" name="文本框 4"/>
          <p:cNvSpPr/>
          <p:nvPr/>
        </p:nvSpPr>
        <p:spPr>
          <a:xfrm>
            <a:off x="0" y="914400"/>
            <a:ext cx="91436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好事耽延君遠去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精明童女燈油蓄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夜半更深呼聲與 燈火續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白衣閃亮新郎愉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5"/>
          <p:cNvSpPr/>
          <p:nvPr/>
        </p:nvSpPr>
        <p:spPr>
          <a:xfrm>
            <a:off x="0" y="6381000"/>
            <a:ext cx="16048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3"/>
          <p:cNvSpPr/>
          <p:nvPr/>
        </p:nvSpPr>
        <p:spPr>
          <a:xfrm>
            <a:off x="6858000" y="6413040"/>
            <a:ext cx="22856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漁家傲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.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新婦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2/2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  <Words>126</Words>
  <Paragraphs>3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19:22Z</dcterms:modified>
  <cp:revision>12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PresentationFormat">
    <vt:lpwstr>On-screen Show (4:3)</vt:lpwstr>
  </property>
  <property fmtid="{D5CDD505-2E9C-101B-9397-08002B2CF9AE}" pid="5" name="Slides">
    <vt:r8>3</vt:r8>
  </property>
</Properties>
</file>