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80206-A99D-4F08-A35F-EE4F5686B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D8E05-DB85-4DDB-9F40-AFA5B46DD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3199B-0621-4AC4-AC1B-9D4B4064D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1659A-C854-4E48-BED5-A72F94615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EB19-2A77-44BB-87F7-92EB0AD5B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EF34-7E83-4C18-B2EE-B59E47178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A536-5D4D-420F-BBE4-538FBE080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C1DB-6EC1-4CB0-88D0-4969CB639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EC51-0C89-404B-8D45-9A40D0007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908F-A425-4B5E-8187-5426FACFD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03D6-7BC7-4AE8-A7E8-3442CEBD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91A1-130D-406F-B569-BD9A82CE1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D3B9-B649-432F-BF43-EA3BFD3CC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0625-7037-43FB-9647-B2A5DA64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5BBB-2EFD-4390-A02B-8D473054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80ED-2CE6-44AA-B978-38108CF0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FBF5B-59F7-4838-9EA9-1ECF21A9B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新婦的祈禱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ng Of The Bride 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C:\Documents and Settings\Administrator\桌面\再次将我更新\繁体中英PPT\新婦的祈禱\新婦的祈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新婦的祈禱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ng Of The Bride 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Documents and Settings\Administrator\桌面\再次将我更新\繁体中英PPT\新婦的祈禱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新婦的祈禱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ng Of The Bride 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Documents and Settings\Administrator\桌面\再次将我更新\繁体中英PPT\新婦的祈禱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</cp:lastModifiedBy>
  <dcterms:modified xsi:type="dcterms:W3CDTF">2010-06-15T06:02:05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