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17793-CFC7-47A0-B5DB-BA9E3E369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7212F-088C-44D6-BE12-3B13F52C9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20085-B8D1-4F48-A773-3EE20ADA4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12956-480B-42B4-A7A6-E5A91A74A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3F9D-21A6-4558-BBA4-308459B1C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5BDA-D2F3-4C40-820C-25E1720A1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9B04-C47A-431C-AC85-CC8A05091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0B0D-EC70-4B30-B267-D5CAD6DC0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DD84-CE93-4303-915A-6D8188617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9EC7-499D-4B1C-824A-4B2697C7E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36CD-7300-4770-9640-67B24CF13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E251-8C17-4929-9B09-AA0B4B03B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4C48-7A9D-4ADF-BE99-05BF46D09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2404-261B-4678-B4DB-A32E1A80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13DC-EDE8-4458-8047-E8897908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AE00-387F-4A44-99FD-D089AE41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880B7-2B1D-4232-ABB3-525F87425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何等深情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ciful Love 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C:\Documents and Settings\Administrator\桌面\再次将我更新\繁体中英PPT\何等深情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何等深情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ciful Love 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Documents and Settings\Administrator\桌面\再次将我更新\繁体中英PPT\何等深情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何等深情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ciful Love 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C:\Documents and Settings\Administrator\桌面\再次将我更新\繁体中英PPT\何等深情\何等深情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</cp:lastModifiedBy>
  <dcterms:modified xsi:type="dcterms:W3CDTF">2010-06-15T06:04:38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