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39D4-15D4-4968-BED9-662DF0839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035A-E2C2-4455-83C8-B21788F3A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E230-A1B0-4544-87FE-170F47E4E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3D16-08CB-4958-8862-F5876B7F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9ED0-9A3B-4605-8B2D-0C99332A2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2059-C15D-4B5D-B9DA-905D463C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DE20-18E4-4CBF-9356-49D065640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171-07BB-4459-971E-570413B1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EA4-0209-481C-B490-D2B2B627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1BE-6372-4277-9D47-9F567377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5AB-D1CC-4C8C-9EC7-BDB1D275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0BF-7BB1-4B06-A8C6-AADB6500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1A0-359A-45D5-825C-D8D62D2F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F89-16C7-450D-99A9-F430ADDC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584-98A1-4454-972A-237E574A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FCF-3F12-43F8-9785-3E95B141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723-F611-4377-8F2E-6094A784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186-9306-4EA4-8DCF-ED598992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A28-746D-4D1B-9229-7EED2CBB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A035-A956-470F-A3B1-C97690C22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耶穌,萬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耶穌,萬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耶穌,萬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耶穌,萬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Administrator\桌面\再次将我更新\繁体中英PPT\耶穌,萬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:\Documents and Settings\Administrator\桌面\再次将我更新\繁体中英PPT\耶穌,萬名之上的名\耶穌,萬名之上的名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5:1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