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FB1B-5EDD-4FE2-8152-17C05FBBD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50FA-C4B1-4124-8D0C-06C94B9CE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FA73-1F42-41C5-B6A9-2524290BA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5551-0890-4118-80D0-65F492DCB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C57C-B8A5-453A-8384-379651750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07F-98DA-4AE4-B0CA-4B8C14F3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8B4E-0294-44E6-B27E-FE6EBCDE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30AB-0D29-409B-B966-6B76D3A8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1BDB-284A-4D82-89F1-14038641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954E-4CA4-4E9A-AFE4-40B2CABE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0466-0F8A-48E6-AD8D-A00D7742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E07D-B50D-4B70-823B-02EB2BB4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F7E-355E-4F35-AD8F-5378B879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4994-304D-4F9F-9446-C50703CA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DFBA-3D31-418A-9805-DD606D3A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0B3-C3BF-465D-9463-D4B650A8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E44F-B967-4EE3-BA20-BE7D588D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7515-99EA-4B95-97F2-0DA9146C9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 And Worship The King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istrator\桌面\再次将我更新\繁体中英PPT\萬民同來敬拜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 And Worship The King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萬民同來敬拜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 And Worship The King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萬民同來敬拜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 And Worship The King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Administrator\桌面\再次将我更新\繁体中英PPT\萬民同來敬拜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5:4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