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C8B3-8B4A-4B49-AF05-F5AA0DBCE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2730-3881-4B67-95FA-2D2D9963C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BBC7-20FF-4B92-AD63-2F5E62774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210F-F2BE-41F2-8EB7-579D7A64D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167C-B0F3-4A51-A662-E0A55AF68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96A1-1E9A-445E-A23C-1BD4B2204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1CC3-06FE-45A3-B66D-E6FBD5DED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4310-9B11-4CF1-8E9C-7D5C857C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9C03-1F0D-422B-A56F-51E29573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DA53-3338-4C69-BBCB-4DFDB1B5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600-EE98-476D-8C7E-519A2114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402-FC62-4BA6-B637-829B8B6B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F9B-E896-484B-A734-BC822F54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EC3-F254-4AC1-9D07-A58E8D95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89A1-896B-47DF-8AA6-13F34AA4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2DB-91D3-41AE-A1A4-EFA3EB74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AAB-9ADE-4682-B3D5-BE978F91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1B1-FBA9-40FC-93E4-B9644E80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0023-B393-4BAA-B5F2-5F815201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C6BA-8A2C-461F-9FBF-3B6CB804C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為我留一個位子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Documents and Settings\Administrator\桌面\再次将我更新\繁体中英PPT\為我留一個位子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Documents and Settings\Administrator\桌面\再次将我更新\繁体中英PPT\為我留一個位子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Documents and Settings\Administrator\桌面\再次将我更新\繁体中英PPT\為我留一個位子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:\Documents and Settings\Administrator\桌面\再次将我更新\繁体中英PPT\為我留一個位子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C:\Documents and Settings\Administrator\桌面\再次将我更新\繁体中英PPT\為我留一個位子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4:1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