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8366-AF41-435D-87FC-D3347E3D7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EC2D-D317-41D4-9B0F-DE486CE6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70AC-4A9B-45C6-A879-3BB281441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2904-7BF6-4AAB-A73D-3AD52D79A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F421-85D8-4BDF-8EFA-5DA9EAFA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B7C2-3D77-47A7-866F-8C83760B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F69D-DD8A-4A6E-B641-15C72D18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46F6-DC12-44A9-B073-8E8CAF54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4123-5E3F-4D6F-908C-1FA585ED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1254-054F-4A51-9E78-6D6EA6AB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D564-0942-4A89-A3E9-C766479B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4DC8-3C78-40E6-9099-5B27D0EB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5EB2-6868-462F-BC1B-7DDBAD82E0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你呼求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粵語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Documents and Settings\Administrator\桌面\再次将我更新\繁体PPT\我向祢呼求 (粵語)\我向祢呼求 (粵語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你呼求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粵語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 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繁体PPT\我向祢呼求 (粵語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你呼求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粵語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 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繁体PPT\我向祢呼求 (粵語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你呼求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粵語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Administrator\桌面\再次将我更新\繁体PPT\我向祢呼求 (粵語)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30:0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