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ADED3-B4D9-449D-8268-1677683AA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EDDCC-413B-4ACA-AED0-66BBAE145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287E9-CE41-4912-B949-B6485AFD3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5D6C2-7B2D-4F68-A7BC-FECB7BEA8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A3AB5-AF4E-492C-9FF4-8A19E65FC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432B2-26F1-474B-AF01-6CEB63A8D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1796F-90C9-42D8-A1E7-5DCBF8D1A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CC79F-9CB3-40F2-95BF-B76A6C154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544D7-C087-44B8-A607-434208A4C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26EAA-1655-40D9-8E50-ACA845B95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21BE3-23E1-4115-8B17-771523E93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3A932-F5E7-4243-8930-0F8A15547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510A2-D567-48DB-A970-2991998F241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新婦的祈禱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5" descr="C:\Documents and Settings\Administrator\桌面\再次将我更新\繁体PPT\新婦的祈禱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新婦的祈禱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" descr="C:\Documents and Settings\Administrator\桌面\再次将我更新\繁体PPT\新婦的祈禱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新婦的祈禱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C:\Documents and Settings\Administrator\桌面\再次将我更新\繁体PPT\新婦的祈禱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0-06-11T15:23:21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