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49A0-1709-4140-953D-4E7DD9B3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ABB0-F298-4778-B368-640CAF46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9F6E-21BC-4C5D-9E72-8A3D99C0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968A-6C5E-4227-81B4-FBE3549F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E500-FC9E-4AFD-BA2C-78519F05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97C4-2AD5-46C1-998B-A3241A51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B429-833C-4492-9939-CBF888C9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6C5-C111-4D19-99F0-8026B045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FFF6-BE4B-43F8-B68C-7A97489C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670E-C0D5-4C02-9A1F-3649A1F6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7D32-6D5E-4D29-9F74-AB3E8DBE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364-7E45-4A03-9521-E9F89714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DA57-A1E5-468D-998F-9ABDD864DF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為我留一個位子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為我留一個位子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為我留一個位子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繁体PPT\為我留一個位子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Administrator\桌面\再次将我更新\繁体PPT\為我留一個位子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Administrator\桌面\再次将我更新\繁体PPT\為我留一個位子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5:4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