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ED0C-FEEB-4D27-9C7A-C85851D5C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4D6F-3F5D-4AE9-9763-3AAE3DF4D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5D5B-4DBC-4BB3-BFAD-FEE2B3728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37D6-548F-4689-939E-621FA2A55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0691-58B4-463C-B677-EDA8AD31A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D082-10BE-4BC7-BD6E-99ECEE9BF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B1AA-B3A2-4D0E-9AA5-0592A7953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66A7-94A0-4064-A97D-60EF08FDE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6E2E-582D-4506-ABB6-9B1153A8B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CB35-6962-4CAC-B373-F4BE04910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93A4-7AF4-42D2-B1FB-D240C452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EFFF-5946-4A26-B9E9-3603164BC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8E085-97A4-40F6-A3AD-282C154F8B6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新妇的祈祷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C:\Documents and Settings\Administrator\桌面\再次将我更新\简体PPT\新妇的祈祷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新妇的祈祷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Documents and Settings\Administrator\桌面\再次将我更新\简体PPT\新妇的祈祷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新妇的祈祷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C:\Documents and Settings\Administrator\桌面\再次将我更新\简体PPT\新妇的祈祷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10:26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