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D66F-5773-4C76-BD79-D830CD40E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EAE2-74E8-486F-A9E5-850A2EBED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D53B-508D-4515-836B-305135E38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FC25-7208-4F90-9CEB-0CC88E039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CA35-D882-4A3B-BB5E-2596D1E06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1B99-2DF0-4ECE-BBB8-87F87012D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C274-0AAF-4B9E-A4CD-22263948D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7B6A-8BCD-419B-B712-91B13A337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F59A-7196-4E18-BB55-A293CA075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C9A6-F5D7-4485-9184-4D10B9E8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605E-EA25-4F98-91FA-A57DF86F6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4F4B-529D-4741-8598-6DC54A00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E4408-BEF2-49A6-9B9A-1AC50A5F7C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祝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" descr="C:\Documents and Settings\Administrator\桌面\主啊,誰人親像祢\繁体\7. 祝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祝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" descr="C:\Documents and Settings\Administrator\桌面\主啊,誰人親像祢\繁体\7. 祝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6:40:47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