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E2FC-BE3A-4DDE-BDD3-D3208DC93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D699-5FD5-4910-9539-4530496C9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AE7-0A97-4EBB-AE23-5042FFED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3267-F229-44EA-9F3A-9C1A2B4DE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E31E-D549-4377-A027-F787F9019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81A9-0068-40F8-A03C-AA2B4ACE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548A-D424-486E-88A0-398EC3B2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EA21-9E97-43CC-B75F-588EB455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7960-D369-46AB-A701-F3027824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8B2C-2F15-41EB-9579-954C606E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DCB4-29CD-4F25-9A74-488846DF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C33F-AE83-4783-A4DF-877C8D5B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E2949-8785-4684-AB86-B6A5EF5FD5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誰人親像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C:\Documents and Settings\Administrator\桌面\主啊,誰人親像祢\繁体\6. 主啊，誰人親像祢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誰人親像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" descr="C:\Documents and Settings\Administrator\桌面\主啊,誰人親像祢\繁体\6. 主啊，誰人親像祢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主啊，誰人親像你（台語）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1" descr="C:\Documents and Settings\Administrator\桌面\主啊,誰人親像祢\繁体\6. 主啊，誰人親像祢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3T16:36:52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