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832A-D1F5-4E83-BFF2-9702223CB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4A6B-BB08-4931-ABD3-8ADB07CB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54EC-BC49-45C4-B985-EC4856143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3D6C-D2F8-4C91-9CB8-45EF3EB6F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9D7-F62C-47DB-BF13-50DEFA53C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7050-3E5D-4592-ACB5-0FFCD1A2F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7E93-D133-45B5-ACF8-AD2563E16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7F7-0599-4437-AAC9-AB5A55BF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C057-0178-48FE-BBC0-B6060DED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B01-7B0C-42DE-8A93-83ED4BFF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0B44-4AD2-4436-A4CF-051890C8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986F-1850-452E-9A4E-8CE722343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FB112-A803-4AE1-BE46-C36A567BAD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C:\Documents and Settings\Administrator\桌面\主啊,誰人親像祢\繁体\3. 耶穌愛我,我知影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C:\Documents and Settings\Administrator\桌面\主啊,誰人親像祢\繁体\3. 耶穌愛我,我知影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3. 耶穌愛我,我知影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耶穌愛我，我知影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C:\Documents and Settings\Administrator\桌面\主啊,誰人親像祢\繁体\3. 耶穌愛我,我知影(台語)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2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