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8D77-A88A-4804-93DC-8DBE4D1F8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8C31-F413-4C7D-A4AE-2A890DF8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3CD4-790C-456D-9A10-AC500FB4D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79B7-9F14-481F-8C34-6019CE33E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C8EA-55DA-4338-B6DA-F13669F3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624B-6E97-4ADA-A38C-3C5B1607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ADCA-C669-40A5-8ECA-1FDBE309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024B-583B-4D55-B65A-DD3029D1C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5A11-6AD0-4597-B057-DDECC775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1F81-80A6-4F1A-AB87-0DF6B843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00E5-721C-491A-BF11-BFA75A6F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4D56-A89C-42CA-BC9D-57159D08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936B-0ECD-402E-A27A-68A918311A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救主愛疼的聲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繁体\4. 救主愛疼的聲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救主愛疼的聲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繁体\4. 救主愛疼的聲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救主愛疼的聲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C:\Documents and Settings\Administrator\桌面\主啊,誰人親像祢\繁体\4. 救主愛疼的聲(台語)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救主愛疼的聲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" descr="C:\Documents and Settings\Administrator\桌面\主啊,誰人親像祢\繁体\4. 救主愛疼的聲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39:2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