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1357-3CBF-4337-B9F7-8F5C9335A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5ED1-C605-43D7-B933-EE7668A92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86E0-8657-45FF-82A3-87B86E1CB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3BE5-3478-42E7-A528-E3F41319F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E3AF-F51F-48A7-83FC-F437098A1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6208-4FE7-4588-B6F4-495B66B51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E352-F5EA-497E-95E6-286802906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9A85-61AD-4446-BDDF-75F635EA0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7064-3248-454F-A80A-051030243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6759-15A6-4C71-AD08-2B52EA29C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B9D7-D49A-47D7-BE64-02729C79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055D-24EB-405A-BF77-B751107CB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0C649-4C29-4AB1-912A-0862E1993C3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我欲等候耶和华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我愿意\我欲等候耶和华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我欲等候耶和华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我愿意\我欲等候耶和华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我欲等候耶和华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E:\music\诗歌\PPT\2\我愿意\我欲等候耶和华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我欲等候耶和华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E:\music\诗歌\PPT\2\我愿意\我欲等候耶和华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4:43:20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