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C97-4856-4769-BB93-C227FB1D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FA9-0D89-4ED7-BD6C-6D83A4B3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8CD-4680-481F-9C58-2BE76439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AB19-6511-47CE-A631-4B49B6D1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A73-EE06-402D-8E19-81C8A095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2E8-948B-4EA8-AC9F-4798BD96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C43-E260-4171-8304-5C95092C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F53-0D0E-4CB5-98D8-C93F24C3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C7A-DC96-45C7-AE93-60E90C1F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305-060F-4AB7-B0A3-D77DCFDF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122-3658-4F22-A16C-8B9761F2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52EC-F530-4257-832F-596534A6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77BD-DC05-41F2-BFC8-B5ED9E716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主啊,誰人親像祢\简体\3. 耶稣爱我,我知影(台语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主啊,誰人親像祢\简体\3. 耶稣爱我,我知影(台语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简体\3. 耶稣爱我,我知影(台语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Documents and Settings\Administrator\桌面\主啊,誰人親像祢\简体\3. 耶稣爱我,我知影(台语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6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