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1F4-21C8-4B64-AA4B-E5DFD050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CA4-163E-4F10-A84E-4B8B7C12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F71-6B75-459C-954F-0B0D05D1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977-AD36-43D5-A0DE-834588EB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73B-4999-4819-9D78-6C4B02AC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BBE-18D6-46F3-A5F5-63B37EEE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5B0-60B3-43FA-9BB2-69720B7E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0DC-707F-4360-A1AA-3B83B260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FE4-2271-4718-A06E-0276416F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36C-1537-422D-998A-AF8B47B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7CD-B2C8-43B2-AEAB-C008E6DC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05E-D336-43C7-B322-B90604AD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424C-64B8-48BB-B2BB-A5DA4843F0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诗篇23篇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诗篇23篇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诗篇23篇（台语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5:42Z</dcterms:modified>
  <cp:revision>5</cp:revision>
  <dc:subject/>
  <dc:title>幻灯片 1</dc:title>
</cp:coreProperties>
</file>