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稱頌你聖名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 Exalt Your Name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稱頌你聖名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 Exalt Your Name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4:35Z</dcterms:modified>
  <cp:revision>40</cp:revision>
  <dc:subject/>
  <dc:title>稱頌你聖名 I Exalt Your Name</dc:title>
</cp:coreProperties>
</file>