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的恩典夠我用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Your Grace Is All I Need V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的恩典夠我用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Your Grace Is All I Need V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的恩典夠我用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Your Grace Is All I Need C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的恩典夠我用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Your Grace Is All I Need C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的恩典夠我用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Your Grace Is All I Need C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1T16:15:59Z</dcterms:modified>
  <cp:revision>21</cp:revision>
  <dc:subject/>
  <dc:title>你的恩典夠我用 Your Grace Is All I Need</dc:title>
</cp:coreProperties>
</file>