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可喜悅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可喜悅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可喜悅的祭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1:33Z</dcterms:modified>
  <cp:revision>19</cp:revision>
  <dc:subject/>
  <dc:title>可喜悅的祭</dc:title>
</cp:coreProperties>
</file>