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FDC7-6B66-4F3D-AAEA-63A249ADB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0978-65AB-40F5-AB8F-B8F1D33AF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9A71-2EFB-4B4F-825D-ACAE586EF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你的聖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m_sanctuar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你的聖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m_sanctuar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你的聖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m_sanctuary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54Z</dcterms:modified>
  <cp:revision>20</cp:revision>
  <dc:subject/>
  <dc:title>進入你的聖所</dc:title>
</cp:coreProperties>
</file>