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643E-F41A-4E74-A6BD-766BD25DC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7E0A-A5F6-472C-840D-41E9BD783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7D83-55B2-4ABE-9B58-6929B7F7C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C21D-978E-4AB8-B290-E366877A3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m_thankyo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_thankyou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_thankyou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45Z</dcterms:modified>
  <cp:revision>64</cp:revision>
  <dc:subject/>
  <dc:title>謝謝祢, 耶穌</dc:title>
</cp:coreProperties>
</file>