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D762-88A2-45B7-9EF3-A50A2A14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8EB-1C38-47D1-9CAD-5BDFE4FBA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1E11-BB9D-4E46-8E70-5EDE3260A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A7A7-E61F-4C57-8824-76A714DD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3Z</dcterms:modified>
  <cp:revision>71</cp:revision>
  <dc:subject/>
  <dc:title>祢的榮耀彰顯於天</dc:title>
</cp:coreProperties>
</file>