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22560-9958-4EDE-9A3B-4D15214339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338A4-5D21-4E9E-ADCB-82698C29F2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554E5-9908-4CB8-A03D-CF98BD3B6A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62779-FE91-4935-B0BE-35F64C68BD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9B8D6-3E8B-4340-89B1-DF18B2DBF4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你比這一切更美麗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4" descr="m_beautiful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你比這一切更美麗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3" descr="m_beautiful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你比這一切更美麗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3" descr="m_beautiful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你比這一切更美麗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3" descr="m_beautiful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5T20:15:44Z</dcterms:created>
  <dc:creator/>
  <dc:description/>
  <dc:language>en-US</dc:language>
  <cp:lastModifiedBy>微软用户</cp:lastModifiedBy>
  <dcterms:modified xsi:type="dcterms:W3CDTF">2010-06-13T14:51:03Z</dcterms:modified>
  <cp:revision>35</cp:revision>
  <dc:subject/>
  <dc:title>你比這一切更美麗</dc:title>
</cp:coreProperties>
</file>