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8480-3260-4409-B91D-666568D19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C572-1E91-43F2-80B1-38885D304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D279-F193-44A9-855F-C2B0379B2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ED51-8F1C-426B-922C-B5686E457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43C9-1575-4EB6-A452-24976FA8D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m_eternity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m_eternity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m_eternity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_eternity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0:59Z</dcterms:modified>
  <cp:revision>27</cp:revision>
  <dc:subject/>
  <dc:title>永遠</dc:title>
</cp:coreProperties>
</file>