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F995-07BD-4340-A2A2-9EF21E630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21B0-DF35-4057-9CFA-14A344FBF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8E44-B454-4D86-B5E6-3DD38F8E6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m_toda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m_toda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40Z</dcterms:modified>
  <cp:revision>42</cp:revision>
  <dc:subject/>
  <dc:title>把握今天</dc:title>
</cp:coreProperties>
</file>