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13E9-C43D-48A9-94F3-6C494D885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2494-ED32-4C38-A693-1BA46BDA5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5A9-C6C3-4053-8111-BF91B504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391B-B236-4302-933A-BFC1949A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0Z</dcterms:modified>
  <cp:revision>56</cp:revision>
  <dc:subject/>
  <dc:title>我的救主</dc:title>
</cp:coreProperties>
</file>