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7FF8-C0A7-4596-A58C-D823EECE1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75F5-F1C5-4B66-AF58-398D87CDE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2E5F-3B7E-45AC-B776-DB148DE0F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4263-12E4-45B9-A109-BF410FAA0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623D-346B-4311-BB0E-C86EA25EC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1Z</dcterms:modified>
  <cp:revision>62</cp:revision>
  <dc:subject/>
  <dc:title>我們來讚美主</dc:title>
</cp:coreProperties>
</file>