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C543-50DD-4B0D-A8CA-E01A843F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C1D5-20B5-41F0-919A-E866B92D3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9227-7D07-4C17-B250-EB01F07C0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FB77-5ACE-46BF-8DE7-A8B37D79A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m_ilove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love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love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5Z</dcterms:modified>
  <cp:revision>59</cp:revision>
  <dc:subject/>
  <dc:title>主耶穌, 我愛你</dc:title>
</cp:coreProperties>
</file>