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EF2D-DE66-40B3-8FF8-42C14683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12EE-1587-4A80-9599-6006D9D4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92F-1D15-4BBA-8316-3870091A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avorit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avorit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7Z</dcterms:modified>
  <cp:revision>31</cp:revision>
  <dc:subject/>
  <dc:title>You Are My Favorite</dc:title>
</cp:coreProperties>
</file>